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4.jpeg" ContentType="image/jpe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C458-8403-470C-A120-786AEEAF155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6576-F025-4D37-868F-DD1DDBFB485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 reacción conlleva la reducción de una segu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lécula de NAD+ a NADH y la generación de una segunda molécula de dióxid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bono. Hasta aquí ya se han producido dos moléculas de dióxido de carbono, por 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 se ha completado la oxidación neta del grupo acetilo. Hay que resaltar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átomos del grupo acetilo entrante los que han sido oxid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6A72-5573-477B-9EF9-069310168D1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F6B1-B771-4F90-A676-24E278D72FA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77F8-FB2C-4716-A412-731F0E512BD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76D6-C02A-4254-A2FF-7EB2DD017DA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4465-361F-427B-8574-99193C988B1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449-058D-4C30-8DB6-C569C8B9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998-D681-448D-A6E3-BCC27C0A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91F-BCB5-4175-B88A-E43B8789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FAA-365E-4E66-A16B-9B17BC95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EB3-018C-45C6-9CF4-D75958FF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43A-6B7E-4E00-A5A9-58EB8E07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F8E-1E89-43E7-9D74-57CE5161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588-8391-4104-A7E8-2D5EB031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B4B-6282-401D-86F1-D92DB2C2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724-5BCD-4C14-955D-C26E7F9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DAD-31E2-4732-9468-5118582D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238-0972-4D3B-87E9-D9E8481A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8D73-6955-4D0F-8AD7-1F540FD5E77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tca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swf/epet.sw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pdh.html" TargetMode="External"/><Relationship Id="rId2" Type="http://schemas.openxmlformats.org/officeDocument/2006/relationships/hyperlink" Target="http://www.iubmb-nicholson.org/swf/e1_v7.swf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501120" y="11592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 Costo energético. Biosíntesis de almidón.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50920" y="547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acción 1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citrato sinta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ataliza la condensación entre acetil-CoA y oxalacetato para rendir citrato, que da nombre al cic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250920" y="2492280"/>
            <a:ext cx="8670960" cy="1973520"/>
            <a:chOff x="250920" y="2492280"/>
            <a:chExt cx="8670960" cy="1973520"/>
          </a:xfrm>
        </p:grpSpPr>
        <p:pic>
          <p:nvPicPr>
            <p:cNvPr id="155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2819520"/>
              <a:ext cx="523692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7" descr=""/>
            <p:cNvPicPr/>
            <p:nvPr/>
          </p:nvPicPr>
          <p:blipFill>
            <a:blip r:embed="rId2"/>
            <a:stretch/>
          </p:blipFill>
          <p:spPr>
            <a:xfrm>
              <a:off x="5364000" y="2492280"/>
              <a:ext cx="3557880" cy="197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Oval 9"/>
          <p:cNvSpPr/>
          <p:nvPr/>
        </p:nvSpPr>
        <p:spPr>
          <a:xfrm>
            <a:off x="2340000" y="2852640"/>
            <a:ext cx="360360" cy="43200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1"/>
          <p:cNvSpPr/>
          <p:nvPr/>
        </p:nvSpPr>
        <p:spPr>
          <a:xfrm flipH="1" rot="21384600">
            <a:off x="825840" y="2420640"/>
            <a:ext cx="1657440" cy="503640"/>
          </a:xfrm>
          <a:custGeom>
            <a:avLst/>
            <a:gdLst>
              <a:gd name="textAreaLeft" fmla="*/ 360 w 1657440"/>
              <a:gd name="textAreaRight" fmla="*/ 1658160 w 16574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fill="none" w="43092" h="21632">
                <a:moveTo>
                  <a:pt x="0" y="21631"/>
                </a:moveTo>
                <a:cubicBezTo>
                  <a:pt x="0" y="21621"/>
                  <a:pt x="0" y="216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95" y="-1"/>
                  <a:pt x="41987" y="8407"/>
                  <a:pt x="43092" y="19447"/>
                </a:cubicBezTo>
              </a:path>
              <a:path stroke="0" w="43092" h="21632">
                <a:moveTo>
                  <a:pt x="0" y="21631"/>
                </a:moveTo>
                <a:cubicBezTo>
                  <a:pt x="0" y="21621"/>
                  <a:pt x="0" y="216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95" y="-1"/>
                  <a:pt x="41987" y="8407"/>
                  <a:pt x="43092" y="19447"/>
                </a:cubicBezTo>
                <a:lnTo>
                  <a:pt x="21600" y="21600"/>
                </a:lnTo>
                <a:lnTo>
                  <a:pt x="0" y="21631"/>
                </a:lnTo>
                <a:close/>
              </a:path>
            </a:pathLst>
          </a:custGeom>
          <a:noFill/>
          <a:ln w="442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5940360" y="2637000"/>
            <a:ext cx="360360" cy="86328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4211640" y="3573360"/>
            <a:ext cx="503280" cy="4320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5364000" y="3141720"/>
            <a:ext cx="28764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7020000" y="2637000"/>
            <a:ext cx="28728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8532720" y="3068640"/>
            <a:ext cx="287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5580000" y="1844640"/>
            <a:ext cx="1800360" cy="20160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6"/>
          <p:cNvGrpSpPr/>
          <p:nvPr/>
        </p:nvGrpSpPr>
        <p:grpSpPr>
          <a:xfrm>
            <a:off x="1474920" y="2187720"/>
            <a:ext cx="6049800" cy="3978000"/>
            <a:chOff x="1474920" y="2187720"/>
            <a:chExt cx="6049800" cy="3978000"/>
          </a:xfrm>
        </p:grpSpPr>
        <p:pic>
          <p:nvPicPr>
            <p:cNvPr id="171" name="Picture 6" descr=""/>
            <p:cNvPicPr/>
            <p:nvPr/>
          </p:nvPicPr>
          <p:blipFill>
            <a:blip r:embed="rId1"/>
            <a:stretch/>
          </p:blipFill>
          <p:spPr>
            <a:xfrm>
              <a:off x="1474920" y="2187720"/>
              <a:ext cx="6049800" cy="39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4"/>
            <p:cNvSpPr/>
            <p:nvPr/>
          </p:nvSpPr>
          <p:spPr>
            <a:xfrm>
              <a:off x="3997800" y="249228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3566160" y="443088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"/>
          <p:cNvSpPr/>
          <p:nvPr/>
        </p:nvSpPr>
        <p:spPr>
          <a:xfrm>
            <a:off x="195120" y="332280"/>
            <a:ext cx="876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2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s dos etapas siguientes conllevan la transformación del citrato en un isómero más fácilmente oxidable. Para ello,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aconitas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convierte el citrato en isocit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mediante una deshidratación, que produce cis-aconitato unido al enzima, seguida de una hidratación que da lugar a la formación de isocitr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1547640" y="2708280"/>
            <a:ext cx="503280" cy="50472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2556000" y="3355920"/>
            <a:ext cx="14436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4572000" y="3284640"/>
            <a:ext cx="576360" cy="4334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5724360" y="2781360"/>
            <a:ext cx="432000" cy="7938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1"/>
          <p:cNvSpPr/>
          <p:nvPr/>
        </p:nvSpPr>
        <p:spPr>
          <a:xfrm>
            <a:off x="3708360" y="5154480"/>
            <a:ext cx="576360" cy="4352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5148360" y="5229360"/>
            <a:ext cx="503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6012000" y="4797360"/>
            <a:ext cx="28872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580000" y="3500280"/>
            <a:ext cx="208764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2"/>
          <p:cNvGrpSpPr/>
          <p:nvPr/>
        </p:nvGrpSpPr>
        <p:grpSpPr>
          <a:xfrm>
            <a:off x="1258920" y="2421000"/>
            <a:ext cx="6264360" cy="2062080"/>
            <a:chOff x="1258920" y="2421000"/>
            <a:chExt cx="6264360" cy="2062080"/>
          </a:xfrm>
        </p:grpSpPr>
        <p:pic>
          <p:nvPicPr>
            <p:cNvPr id="190" name="Picture 6" descr=""/>
            <p:cNvPicPr/>
            <p:nvPr/>
          </p:nvPicPr>
          <p:blipFill>
            <a:blip r:embed="rId1"/>
            <a:stretch/>
          </p:blipFill>
          <p:spPr>
            <a:xfrm>
              <a:off x="1258920" y="2421000"/>
              <a:ext cx="626436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20"/>
            <p:cNvSpPr/>
            <p:nvPr/>
          </p:nvSpPr>
          <p:spPr>
            <a:xfrm>
              <a:off x="3807720" y="26370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3"/>
          <p:cNvGrpSpPr/>
          <p:nvPr/>
        </p:nvGrpSpPr>
        <p:grpSpPr>
          <a:xfrm>
            <a:off x="1332000" y="4729320"/>
            <a:ext cx="6192720" cy="1876320"/>
            <a:chOff x="1332000" y="4729320"/>
            <a:chExt cx="6192720" cy="1876320"/>
          </a:xfrm>
        </p:grpSpPr>
        <p:pic>
          <p:nvPicPr>
            <p:cNvPr id="193" name="Picture 7" descr=""/>
            <p:cNvPicPr/>
            <p:nvPr/>
          </p:nvPicPr>
          <p:blipFill>
            <a:blip r:embed="rId2"/>
            <a:stretch/>
          </p:blipFill>
          <p:spPr>
            <a:xfrm>
              <a:off x="1332000" y="4729320"/>
              <a:ext cx="619272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1"/>
            <p:cNvSpPr/>
            <p:nvPr/>
          </p:nvSpPr>
          <p:spPr>
            <a:xfrm>
              <a:off x="3233160" y="481176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2"/>
          <p:cNvSpPr/>
          <p:nvPr/>
        </p:nvSpPr>
        <p:spPr>
          <a:xfrm>
            <a:off x="179280" y="40356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3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isocit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oxida el isocitrato a oxalosuccin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con la reducción acoplada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AD+ a NAD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Posteriormente, el oxalosuccinato es descarboxilado, rindiendo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-cetogluta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 Esta es la primera etapa en la que la oxidación se acopla a la producción de NADH, y también la primera en la que se genera dióxido de carbo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1330200" y="3500280"/>
            <a:ext cx="28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2195640" y="3502080"/>
            <a:ext cx="287280" cy="3585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4930920" y="3573360"/>
            <a:ext cx="720720" cy="2872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5722920" y="3500280"/>
            <a:ext cx="50472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7646400" y="3351240"/>
            <a:ext cx="668880" cy="438120"/>
            <a:chOff x="7646400" y="3351240"/>
            <a:chExt cx="668880" cy="438120"/>
          </a:xfrm>
        </p:grpSpPr>
        <p:sp>
          <p:nvSpPr>
            <p:cNvPr id="201" name="Text Box 12"/>
            <p:cNvSpPr/>
            <p:nvPr/>
          </p:nvSpPr>
          <p:spPr>
            <a:xfrm>
              <a:off x="7646400" y="351468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3"/>
            <p:cNvSpPr/>
            <p:nvPr/>
          </p:nvSpPr>
          <p:spPr>
            <a:xfrm>
              <a:off x="8026560" y="335124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4"/>
            <p:cNvSpPr/>
            <p:nvPr/>
          </p:nvSpPr>
          <p:spPr>
            <a:xfrm>
              <a:off x="8136000" y="3640320"/>
              <a:ext cx="17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Oval 16"/>
          <p:cNvSpPr/>
          <p:nvPr/>
        </p:nvSpPr>
        <p:spPr>
          <a:xfrm>
            <a:off x="7524720" y="3500280"/>
            <a:ext cx="64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7"/>
          <p:cNvSpPr/>
          <p:nvPr/>
        </p:nvSpPr>
        <p:spPr>
          <a:xfrm>
            <a:off x="3132000" y="5589720"/>
            <a:ext cx="28764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8"/>
          <p:cNvSpPr/>
          <p:nvPr/>
        </p:nvSpPr>
        <p:spPr>
          <a:xfrm>
            <a:off x="5292720" y="5300640"/>
            <a:ext cx="35892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9"/>
          <p:cNvSpPr/>
          <p:nvPr/>
        </p:nvSpPr>
        <p:spPr>
          <a:xfrm>
            <a:off x="680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8"/>
          <p:cNvSpPr/>
          <p:nvPr/>
        </p:nvSpPr>
        <p:spPr>
          <a:xfrm>
            <a:off x="212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10"/>
          <p:cNvGrpSpPr/>
          <p:nvPr/>
        </p:nvGrpSpPr>
        <p:grpSpPr>
          <a:xfrm>
            <a:off x="1258920" y="2421000"/>
            <a:ext cx="6842160" cy="2062080"/>
            <a:chOff x="1258920" y="2421000"/>
            <a:chExt cx="6842160" cy="2062080"/>
          </a:xfrm>
        </p:grpSpPr>
        <p:pic>
          <p:nvPicPr>
            <p:cNvPr id="210" name="Picture 8" descr=""/>
            <p:cNvPicPr/>
            <p:nvPr/>
          </p:nvPicPr>
          <p:blipFill>
            <a:blip r:embed="rId1"/>
            <a:srcRect l="59295" t="0" r="0" b="0"/>
            <a:stretch/>
          </p:blipFill>
          <p:spPr>
            <a:xfrm>
              <a:off x="5580000" y="2421000"/>
              <a:ext cx="25210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"/>
            <p:cNvPicPr/>
            <p:nvPr/>
          </p:nvPicPr>
          <p:blipFill>
            <a:blip r:embed="rId2"/>
            <a:srcRect l="0" t="0" r="29878" b="0"/>
            <a:stretch/>
          </p:blipFill>
          <p:spPr>
            <a:xfrm>
              <a:off x="1258920" y="2421000"/>
              <a:ext cx="439272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6"/>
            <p:cNvSpPr/>
            <p:nvPr/>
          </p:nvSpPr>
          <p:spPr>
            <a:xfrm>
              <a:off x="3807720" y="26370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8"/>
          <p:cNvGrpSpPr/>
          <p:nvPr/>
        </p:nvGrpSpPr>
        <p:grpSpPr>
          <a:xfrm>
            <a:off x="4427640" y="3500280"/>
            <a:ext cx="1387440" cy="2211120"/>
            <a:chOff x="4427640" y="3500280"/>
            <a:chExt cx="1387440" cy="2211120"/>
          </a:xfrm>
        </p:grpSpPr>
        <p:sp>
          <p:nvSpPr>
            <p:cNvPr id="214" name="Rectangle 12"/>
            <p:cNvSpPr/>
            <p:nvPr/>
          </p:nvSpPr>
          <p:spPr>
            <a:xfrm>
              <a:off x="4448160" y="3500280"/>
              <a:ext cx="1276200" cy="432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4951440" y="393228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4"/>
            <p:cNvSpPr/>
            <p:nvPr/>
          </p:nvSpPr>
          <p:spPr>
            <a:xfrm>
              <a:off x="4427640" y="488808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5"/>
          <p:cNvGrpSpPr/>
          <p:nvPr/>
        </p:nvGrpSpPr>
        <p:grpSpPr>
          <a:xfrm>
            <a:off x="5815080" y="5059440"/>
            <a:ext cx="1981800" cy="459720"/>
            <a:chOff x="5815080" y="5059440"/>
            <a:chExt cx="1981800" cy="459720"/>
          </a:xfrm>
        </p:grpSpPr>
        <p:sp>
          <p:nvSpPr>
            <p:cNvPr id="218" name="Line 16"/>
            <p:cNvSpPr/>
            <p:nvPr/>
          </p:nvSpPr>
          <p:spPr>
            <a:xfrm>
              <a:off x="5815080" y="530100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7"/>
            <p:cNvSpPr/>
            <p:nvPr/>
          </p:nvSpPr>
          <p:spPr>
            <a:xfrm>
              <a:off x="6753600" y="50594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0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4284720" y="4941720"/>
            <a:ext cx="251928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4"/>
          <p:cNvGrpSpPr/>
          <p:nvPr/>
        </p:nvGrpSpPr>
        <p:grpSpPr>
          <a:xfrm>
            <a:off x="611280" y="2368440"/>
            <a:ext cx="7848360" cy="2789280"/>
            <a:chOff x="611280" y="2368440"/>
            <a:chExt cx="7848360" cy="2789280"/>
          </a:xfrm>
        </p:grpSpPr>
        <p:pic>
          <p:nvPicPr>
            <p:cNvPr id="228" name="Picture 6" descr=""/>
            <p:cNvPicPr/>
            <p:nvPr/>
          </p:nvPicPr>
          <p:blipFill>
            <a:blip r:embed="rId1"/>
            <a:stretch/>
          </p:blipFill>
          <p:spPr>
            <a:xfrm>
              <a:off x="611280" y="2368440"/>
              <a:ext cx="784836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13"/>
            <p:cNvSpPr/>
            <p:nvPr/>
          </p:nvSpPr>
          <p:spPr>
            <a:xfrm>
              <a:off x="3133800" y="2781360"/>
              <a:ext cx="1933200" cy="642600"/>
            </a:xfrm>
            <a:prstGeom prst="rect">
              <a:avLst/>
            </a:prstGeom>
            <a:solidFill>
              <a:srgbClr val="ff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ff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3"/>
          <p:cNvSpPr/>
          <p:nvPr/>
        </p:nvSpPr>
        <p:spPr>
          <a:xfrm>
            <a:off x="217440" y="47520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4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complejo enzimático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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-cetogluta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descarboxila oxidativamente el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-cetoglutarato a succinil-Co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1476360" y="3645000"/>
            <a:ext cx="1152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5291280" y="2781360"/>
            <a:ext cx="7207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7020000" y="3716280"/>
            <a:ext cx="1224000" cy="432000"/>
          </a:xfrm>
          <a:prstGeom prst="rect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2"/>
          <p:cNvGrpSpPr/>
          <p:nvPr/>
        </p:nvGrpSpPr>
        <p:grpSpPr>
          <a:xfrm>
            <a:off x="3205080" y="4653000"/>
            <a:ext cx="1079280" cy="431640"/>
            <a:chOff x="3205080" y="4653000"/>
            <a:chExt cx="1079280" cy="431640"/>
          </a:xfrm>
        </p:grpSpPr>
        <p:sp>
          <p:nvSpPr>
            <p:cNvPr id="235" name="Rectangle 9"/>
            <p:cNvSpPr/>
            <p:nvPr/>
          </p:nvSpPr>
          <p:spPr>
            <a:xfrm>
              <a:off x="3205080" y="4653000"/>
              <a:ext cx="1079280" cy="431640"/>
            </a:xfrm>
            <a:prstGeom prst="rect">
              <a:avLst/>
            </a:prstGeom>
            <a:noFill/>
            <a:ln w="442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1"/>
            <p:cNvSpPr/>
            <p:nvPr/>
          </p:nvSpPr>
          <p:spPr>
            <a:xfrm>
              <a:off x="3348000" y="4744800"/>
              <a:ext cx="93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5"/>
          <p:cNvGrpSpPr/>
          <p:nvPr/>
        </p:nvGrpSpPr>
        <p:grpSpPr>
          <a:xfrm>
            <a:off x="4788000" y="3860640"/>
            <a:ext cx="1387440" cy="2211120"/>
            <a:chOff x="4788000" y="3860640"/>
            <a:chExt cx="1387440" cy="2211120"/>
          </a:xfrm>
        </p:grpSpPr>
        <p:sp>
          <p:nvSpPr>
            <p:cNvPr id="238" name="Rectangle 17"/>
            <p:cNvSpPr/>
            <p:nvPr/>
          </p:nvSpPr>
          <p:spPr>
            <a:xfrm>
              <a:off x="4808520" y="3860640"/>
              <a:ext cx="1276200" cy="432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>
              <a:off x="5311800" y="429264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9"/>
            <p:cNvSpPr/>
            <p:nvPr/>
          </p:nvSpPr>
          <p:spPr>
            <a:xfrm>
              <a:off x="4788000" y="524844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0"/>
          <p:cNvGrpSpPr/>
          <p:nvPr/>
        </p:nvGrpSpPr>
        <p:grpSpPr>
          <a:xfrm>
            <a:off x="6175440" y="5419800"/>
            <a:ext cx="1981800" cy="459720"/>
            <a:chOff x="6175440" y="5419800"/>
            <a:chExt cx="1981800" cy="459720"/>
          </a:xfrm>
        </p:grpSpPr>
        <p:sp>
          <p:nvSpPr>
            <p:cNvPr id="242" name="Line 21"/>
            <p:cNvSpPr/>
            <p:nvPr/>
          </p:nvSpPr>
          <p:spPr>
            <a:xfrm>
              <a:off x="6175440" y="566136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2"/>
            <p:cNvSpPr/>
            <p:nvPr/>
          </p:nvSpPr>
          <p:spPr>
            <a:xfrm>
              <a:off x="7113960" y="5419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2268360" y="5013360"/>
            <a:ext cx="2590920" cy="158436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79280" y="17208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5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uccinil-CoA sintetasa o succinato tioqui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onvierte el succinil-CoA en succinato. La energía libre de la reacción se conserva aquí por la formación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TP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a partir de GDP y P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1108080" y="1844640"/>
            <a:ext cx="7424640" cy="245736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12"/>
          <p:cNvGrpSpPr/>
          <p:nvPr/>
        </p:nvGrpSpPr>
        <p:grpSpPr>
          <a:xfrm>
            <a:off x="1764720" y="4791240"/>
            <a:ext cx="5542560" cy="727920"/>
            <a:chOff x="1764720" y="4791240"/>
            <a:chExt cx="5542560" cy="727920"/>
          </a:xfrm>
        </p:grpSpPr>
        <p:sp>
          <p:nvSpPr>
            <p:cNvPr id="253" name="Text Box 8"/>
            <p:cNvSpPr/>
            <p:nvPr/>
          </p:nvSpPr>
          <p:spPr>
            <a:xfrm>
              <a:off x="1764720" y="5059440"/>
              <a:ext cx="17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TP + 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9"/>
            <p:cNvSpPr/>
            <p:nvPr/>
          </p:nvSpPr>
          <p:spPr>
            <a:xfrm>
              <a:off x="5509800" y="5052960"/>
              <a:ext cx="17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DP +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>
              <a:off x="3564000" y="5132520"/>
              <a:ext cx="1944360" cy="288720"/>
            </a:xfrm>
            <a:prstGeom prst="leftRightArrow">
              <a:avLst>
                <a:gd name="adj1" fmla="val 40657"/>
                <a:gd name="adj2" fmla="val 929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3417480" y="4791240"/>
              <a:ext cx="23277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ucleósido difosfa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Oval 13"/>
          <p:cNvSpPr/>
          <p:nvPr/>
        </p:nvSpPr>
        <p:spPr>
          <a:xfrm>
            <a:off x="1619280" y="299556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4"/>
          <p:cNvSpPr/>
          <p:nvPr/>
        </p:nvSpPr>
        <p:spPr>
          <a:xfrm>
            <a:off x="3851280" y="256392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5"/>
          <p:cNvSpPr/>
          <p:nvPr/>
        </p:nvSpPr>
        <p:spPr>
          <a:xfrm>
            <a:off x="4284720" y="2995560"/>
            <a:ext cx="863640" cy="360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1979640" y="2995560"/>
            <a:ext cx="1152360" cy="50472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7093080" y="2419200"/>
            <a:ext cx="1224000" cy="505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8"/>
          <p:cNvSpPr/>
          <p:nvPr/>
        </p:nvSpPr>
        <p:spPr>
          <a:xfrm flipH="1">
            <a:off x="2340000" y="3355920"/>
            <a:ext cx="2303280" cy="1655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565200" y="5734080"/>
            <a:ext cx="825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En las células vegetales en la reacción de la Succinato tioquinasa se fosforila ADP para da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468360" y="189000"/>
            <a:ext cx="3375000" cy="82548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METABOLISMO INTER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1763640" y="3716280"/>
            <a:ext cx="1800360" cy="1513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217440" y="25920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6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s reacciones restantes suponen la preparación de otra vuelta del cicl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y para ello completan la oxidación de succinato a oxalacetato. La </a:t>
            </a:r>
            <a:r>
              <a:rPr b="1" i="1" lang="es-ES" sz="2000" spc="-1" strike="noStrike">
                <a:solidFill>
                  <a:srgbClr val="d60093"/>
                </a:solidFill>
                <a:latin typeface="Arial"/>
              </a:rPr>
              <a:t>succinato deshidroge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la oxidación del enlace sencillo situado en el centro de la molécula de succinato a un doble enlace trans, dando lugar a fumarato con la reducción simultánea de </a:t>
            </a:r>
            <a:r>
              <a:rPr b="1" lang="es-ES" sz="2000" spc="-1" strike="noStrike">
                <a:solidFill>
                  <a:srgbClr val="d60093"/>
                </a:solidFill>
                <a:latin typeface="Arial"/>
              </a:rPr>
              <a:t>FAD</a:t>
            </a:r>
            <a:r>
              <a:rPr b="1" lang="es-ES" sz="2000" spc="-1" strike="noStrike" baseline="30000">
                <a:solidFill>
                  <a:srgbClr val="d60093"/>
                </a:solidFill>
                <a:latin typeface="Arial"/>
              </a:rPr>
              <a:t>+</a:t>
            </a:r>
            <a:r>
              <a:rPr b="1" lang="es-ES" sz="2000" spc="-1" strike="noStrike">
                <a:solidFill>
                  <a:srgbClr val="d60093"/>
                </a:solidFill>
                <a:latin typeface="Arial"/>
              </a:rPr>
              <a:t> a FADH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826920" y="2719440"/>
            <a:ext cx="7561440" cy="2436840"/>
            <a:chOff x="826920" y="2719440"/>
            <a:chExt cx="7561440" cy="2436840"/>
          </a:xfrm>
        </p:grpSpPr>
        <p:pic>
          <p:nvPicPr>
            <p:cNvPr id="272" name="Picture 6" descr=""/>
            <p:cNvPicPr/>
            <p:nvPr/>
          </p:nvPicPr>
          <p:blipFill>
            <a:blip r:embed="rId1"/>
            <a:stretch/>
          </p:blipFill>
          <p:spPr>
            <a:xfrm>
              <a:off x="826920" y="2719440"/>
              <a:ext cx="75614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7"/>
            <p:cNvSpPr/>
            <p:nvPr/>
          </p:nvSpPr>
          <p:spPr>
            <a:xfrm>
              <a:off x="3060720" y="2997360"/>
              <a:ext cx="1933200" cy="642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Succi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9"/>
          <p:cNvSpPr/>
          <p:nvPr/>
        </p:nvSpPr>
        <p:spPr>
          <a:xfrm>
            <a:off x="1403280" y="3357720"/>
            <a:ext cx="289080" cy="35856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1403280" y="3933720"/>
            <a:ext cx="289080" cy="35892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4859280" y="4149720"/>
            <a:ext cx="504720" cy="50328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6588000" y="3141720"/>
            <a:ext cx="432000" cy="100800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264200" y="4149720"/>
            <a:ext cx="1387440" cy="2210760"/>
            <a:chOff x="4264200" y="4149720"/>
            <a:chExt cx="1387440" cy="2210760"/>
          </a:xfrm>
        </p:grpSpPr>
        <p:sp>
          <p:nvSpPr>
            <p:cNvPr id="279" name="Rectangle 13"/>
            <p:cNvSpPr/>
            <p:nvPr/>
          </p:nvSpPr>
          <p:spPr>
            <a:xfrm>
              <a:off x="4284720" y="4149720"/>
              <a:ext cx="93492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>
              <a:off x="4788000" y="4581360"/>
              <a:ext cx="0" cy="935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5"/>
            <p:cNvSpPr/>
            <p:nvPr/>
          </p:nvSpPr>
          <p:spPr>
            <a:xfrm>
              <a:off x="4264200" y="553716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9"/>
          <p:cNvGrpSpPr/>
          <p:nvPr/>
        </p:nvGrpSpPr>
        <p:grpSpPr>
          <a:xfrm>
            <a:off x="5651640" y="5708520"/>
            <a:ext cx="1981800" cy="459720"/>
            <a:chOff x="5651640" y="5708520"/>
            <a:chExt cx="1981800" cy="459720"/>
          </a:xfrm>
        </p:grpSpPr>
        <p:sp>
          <p:nvSpPr>
            <p:cNvPr id="283" name="Line 16"/>
            <p:cNvSpPr/>
            <p:nvPr/>
          </p:nvSpPr>
          <p:spPr>
            <a:xfrm>
              <a:off x="5651640" y="595008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7"/>
            <p:cNvSpPr/>
            <p:nvPr/>
          </p:nvSpPr>
          <p:spPr>
            <a:xfrm>
              <a:off x="6590160" y="570852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1979640" y="2637000"/>
            <a:ext cx="1224000" cy="129672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25520" y="40392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7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to hidrat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después l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hidratación del doble enlace del fumarato para rendir mal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865080" y="2133720"/>
            <a:ext cx="7378920" cy="1800000"/>
            <a:chOff x="865080" y="2133720"/>
            <a:chExt cx="7378920" cy="1800000"/>
          </a:xfrm>
        </p:grpSpPr>
        <p:pic>
          <p:nvPicPr>
            <p:cNvPr id="293" name="Picture 6" descr=""/>
            <p:cNvPicPr/>
            <p:nvPr/>
          </p:nvPicPr>
          <p:blipFill>
            <a:blip r:embed="rId1"/>
            <a:srcRect l="0" t="0" r="0" b="7584"/>
            <a:stretch/>
          </p:blipFill>
          <p:spPr>
            <a:xfrm>
              <a:off x="865080" y="2133720"/>
              <a:ext cx="7378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7"/>
            <p:cNvSpPr/>
            <p:nvPr/>
          </p:nvSpPr>
          <p:spPr>
            <a:xfrm>
              <a:off x="3925800" y="2199960"/>
              <a:ext cx="12214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90099"/>
                  </a:solidFill>
                  <a:latin typeface="Arial"/>
                </a:rPr>
                <a:t>Fum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90099"/>
                  </a:solidFill>
                  <a:latin typeface="Arial"/>
                </a:rPr>
                <a:t>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Oval 9"/>
          <p:cNvSpPr/>
          <p:nvPr/>
        </p:nvSpPr>
        <p:spPr>
          <a:xfrm>
            <a:off x="3851280" y="3141720"/>
            <a:ext cx="72072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5292720" y="2205000"/>
            <a:ext cx="576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6443640" y="2997360"/>
            <a:ext cx="360360" cy="36036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2195640" y="2492280"/>
            <a:ext cx="360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2195640" y="1628640"/>
            <a:ext cx="1728720" cy="129564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0"/>
          <p:cNvGrpSpPr/>
          <p:nvPr/>
        </p:nvGrpSpPr>
        <p:grpSpPr>
          <a:xfrm>
            <a:off x="826920" y="2421000"/>
            <a:ext cx="7417080" cy="2068560"/>
            <a:chOff x="826920" y="2421000"/>
            <a:chExt cx="7417080" cy="2068560"/>
          </a:xfrm>
        </p:grpSpPr>
        <p:grpSp>
          <p:nvGrpSpPr>
            <p:cNvPr id="306" name="Group 8"/>
            <p:cNvGrpSpPr/>
            <p:nvPr/>
          </p:nvGrpSpPr>
          <p:grpSpPr>
            <a:xfrm>
              <a:off x="826920" y="2421000"/>
              <a:ext cx="7417080" cy="2068560"/>
              <a:chOff x="826920" y="2421000"/>
              <a:chExt cx="7417080" cy="2068560"/>
            </a:xfrm>
          </p:grpSpPr>
          <p:pic>
            <p:nvPicPr>
              <p:cNvPr id="307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421000"/>
                <a:ext cx="7417080" cy="20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Text Box 7"/>
              <p:cNvSpPr/>
              <p:nvPr/>
            </p:nvSpPr>
            <p:spPr>
              <a:xfrm>
                <a:off x="3421080" y="2683080"/>
                <a:ext cx="2721240" cy="368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ff"/>
                    </a:solidFill>
                    <a:latin typeface="Arial"/>
                  </a:rPr>
                  <a:t>Mal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5435280" y="3724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3"/>
          <p:cNvSpPr/>
          <p:nvPr/>
        </p:nvSpPr>
        <p:spPr>
          <a:xfrm>
            <a:off x="287280" y="259200"/>
            <a:ext cx="85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8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Finalmente, 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mal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regenera el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oxalacet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oxidando el grupo alcohol secundario del malato a la correspondiente cetona, con la reducción de una tercera molécula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AD+ a NAD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9"/>
          <p:cNvGrpSpPr/>
          <p:nvPr/>
        </p:nvGrpSpPr>
        <p:grpSpPr>
          <a:xfrm>
            <a:off x="4800600" y="3645000"/>
            <a:ext cx="1387440" cy="2210760"/>
            <a:chOff x="4800600" y="3645000"/>
            <a:chExt cx="1387440" cy="2210760"/>
          </a:xfrm>
        </p:grpSpPr>
        <p:sp>
          <p:nvSpPr>
            <p:cNvPr id="312" name="Rectangle 10"/>
            <p:cNvSpPr/>
            <p:nvPr/>
          </p:nvSpPr>
          <p:spPr>
            <a:xfrm>
              <a:off x="4821120" y="3645000"/>
              <a:ext cx="127656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5324400" y="407664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2"/>
            <p:cNvSpPr/>
            <p:nvPr/>
          </p:nvSpPr>
          <p:spPr>
            <a:xfrm>
              <a:off x="4800600" y="503244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3"/>
          <p:cNvGrpSpPr/>
          <p:nvPr/>
        </p:nvGrpSpPr>
        <p:grpSpPr>
          <a:xfrm>
            <a:off x="6188040" y="5203800"/>
            <a:ext cx="1981800" cy="459720"/>
            <a:chOff x="6188040" y="5203800"/>
            <a:chExt cx="1981800" cy="459720"/>
          </a:xfrm>
        </p:grpSpPr>
        <p:sp>
          <p:nvSpPr>
            <p:cNvPr id="316" name="Line 14"/>
            <p:cNvSpPr/>
            <p:nvPr/>
          </p:nvSpPr>
          <p:spPr>
            <a:xfrm>
              <a:off x="6188040" y="544536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5"/>
            <p:cNvSpPr/>
            <p:nvPr/>
          </p:nvSpPr>
          <p:spPr>
            <a:xfrm>
              <a:off x="7126560" y="5203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Oval 16"/>
          <p:cNvSpPr/>
          <p:nvPr/>
        </p:nvSpPr>
        <p:spPr>
          <a:xfrm>
            <a:off x="900000" y="2587680"/>
            <a:ext cx="35892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7"/>
          <p:cNvSpPr/>
          <p:nvPr/>
        </p:nvSpPr>
        <p:spPr>
          <a:xfrm>
            <a:off x="1908000" y="2587680"/>
            <a:ext cx="36036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8"/>
          <p:cNvSpPr/>
          <p:nvPr/>
        </p:nvSpPr>
        <p:spPr>
          <a:xfrm>
            <a:off x="5364000" y="3597120"/>
            <a:ext cx="792360" cy="50508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1"/>
          <p:cNvSpPr/>
          <p:nvPr/>
        </p:nvSpPr>
        <p:spPr>
          <a:xfrm>
            <a:off x="6156360" y="2660760"/>
            <a:ext cx="720720" cy="43164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28"/>
          <p:cNvGrpSpPr/>
          <p:nvPr/>
        </p:nvGrpSpPr>
        <p:grpSpPr>
          <a:xfrm>
            <a:off x="5940360" y="1700280"/>
            <a:ext cx="739440" cy="503280"/>
            <a:chOff x="5940360" y="1700280"/>
            <a:chExt cx="739440" cy="503280"/>
          </a:xfrm>
        </p:grpSpPr>
        <p:grpSp>
          <p:nvGrpSpPr>
            <p:cNvPr id="323" name="Group 27"/>
            <p:cNvGrpSpPr/>
            <p:nvPr/>
          </p:nvGrpSpPr>
          <p:grpSpPr>
            <a:xfrm>
              <a:off x="6011280" y="1755720"/>
              <a:ext cx="668520" cy="447840"/>
              <a:chOff x="6011280" y="1755720"/>
              <a:chExt cx="668520" cy="447840"/>
            </a:xfrm>
          </p:grpSpPr>
          <p:sp>
            <p:nvSpPr>
              <p:cNvPr id="324" name="Text Box 23"/>
              <p:cNvSpPr/>
              <p:nvPr/>
            </p:nvSpPr>
            <p:spPr>
              <a:xfrm>
                <a:off x="6011280" y="1755720"/>
                <a:ext cx="477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=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4"/>
              <p:cNvSpPr/>
              <p:nvPr/>
            </p:nvSpPr>
            <p:spPr>
              <a:xfrm>
                <a:off x="6391080" y="2024280"/>
                <a:ext cx="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5"/>
              <p:cNvSpPr/>
              <p:nvPr/>
            </p:nvSpPr>
            <p:spPr>
              <a:xfrm>
                <a:off x="6500520" y="1881360"/>
                <a:ext cx="17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Oval 26"/>
            <p:cNvSpPr/>
            <p:nvPr/>
          </p:nvSpPr>
          <p:spPr>
            <a:xfrm>
              <a:off x="5940360" y="1700280"/>
              <a:ext cx="647640" cy="360360"/>
            </a:xfrm>
            <a:prstGeom prst="ellipse">
              <a:avLst/>
            </a:prstGeom>
            <a:noFill/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2036160" y="272880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tc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395280" y="260280"/>
            <a:ext cx="85694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Hemos dado hasta ahora una vuela completa al ciclo de Krebs en el c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átomos de carbono entraron al ciclo en forma de Acetil-CoA y se combinaron con el oxalacetato del ciclo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 átomos de carbono salieron del ciclo en forma de CO2 en los procesos de oxidación del isocitrato y el alfa-cetoglutar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La energía de las oxidaciones se conser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on eficiencia en forma de 3 NADH, 1 FADH</a:t>
            </a:r>
            <a:r>
              <a:rPr b="1" lang="es-E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y 1G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Finalmente se regene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la molécula de oxalacetato para dar inicio a otra vuelta del cic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2916360" y="3090960"/>
            <a:ext cx="4319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5 Regulacion CK"/>
          <p:cNvPicPr/>
          <p:nvPr/>
        </p:nvPicPr>
        <p:blipFill>
          <a:blip r:embed="rId1"/>
          <a:stretch/>
        </p:blipFill>
        <p:spPr>
          <a:xfrm>
            <a:off x="3546360" y="115920"/>
            <a:ext cx="5562720" cy="65786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76320" y="26028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egulación d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5508720" y="1125360"/>
            <a:ext cx="331128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6227640" y="3213000"/>
            <a:ext cx="2808360" cy="1584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5292720" y="4149720"/>
            <a:ext cx="2519280" cy="2232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"/>
          <p:cNvSpPr/>
          <p:nvPr/>
        </p:nvSpPr>
        <p:spPr>
          <a:xfrm>
            <a:off x="539640" y="2565360"/>
            <a:ext cx="8209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contenida en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</a:rPr>
              <a:t>un mol de </a:t>
            </a:r>
            <a:r>
              <a:rPr b="1" lang="es-ES_tradnl" sz="2400" spc="-1" strike="noStrike" u="sng">
                <a:solidFill>
                  <a:srgbClr val="d60093"/>
                </a:solidFill>
                <a:uFillTx/>
                <a:latin typeface="Arial"/>
              </a:rPr>
              <a:t>piruvato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que es degradado hasta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en la mitocondria en condiciones de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54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59" name="Text Box 9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62" name="Text Box 12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3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64" name="Text Box 14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Group 15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66" name="Line 16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17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" name="Text Box 18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0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71" name="Line 21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2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3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74" name="Line 24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5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6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77" name="Line 27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8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9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81" name="Line 31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32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33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7"/>
          <p:cNvSpPr/>
          <p:nvPr/>
        </p:nvSpPr>
        <p:spPr>
          <a:xfrm>
            <a:off x="442764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6"/>
          <p:cNvSpPr/>
          <p:nvPr/>
        </p:nvSpPr>
        <p:spPr>
          <a:xfrm rot="20172000">
            <a:off x="4859280" y="765000"/>
            <a:ext cx="2519280" cy="5543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8"/>
          <p:cNvSpPr/>
          <p:nvPr/>
        </p:nvSpPr>
        <p:spPr>
          <a:xfrm>
            <a:off x="4914000" y="2781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P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45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338" name="Group 43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grpSp>
            <p:nvGrpSpPr>
              <p:cNvPr id="339" name="Group 42"/>
              <p:cNvGrpSpPr/>
              <p:nvPr/>
            </p:nvGrpSpPr>
            <p:grpSpPr>
              <a:xfrm>
                <a:off x="0" y="0"/>
                <a:ext cx="9144000" cy="6834240"/>
                <a:chOff x="0" y="0"/>
                <a:chExt cx="9144000" cy="6834240"/>
              </a:xfrm>
            </p:grpSpPr>
            <p:pic>
              <p:nvPicPr>
                <p:cNvPr id="340" name="Picture 2" descr="14 CK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3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Text Box 30"/>
                <p:cNvSpPr/>
                <p:nvPr/>
              </p:nvSpPr>
              <p:spPr>
                <a:xfrm>
                  <a:off x="3390480" y="71604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31"/>
                <p:cNvSpPr/>
                <p:nvPr/>
              </p:nvSpPr>
              <p:spPr>
                <a:xfrm>
                  <a:off x="3227040" y="107640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Arc 29"/>
              <p:cNvSpPr/>
              <p:nvPr/>
            </p:nvSpPr>
            <p:spPr>
              <a:xfrm rot="20133600">
                <a:off x="3865680" y="692280"/>
                <a:ext cx="360360" cy="43164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2232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Rectangle 44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347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350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353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356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359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8"/>
          <p:cNvSpPr/>
          <p:nvPr/>
        </p:nvSpPr>
        <p:spPr>
          <a:xfrm>
            <a:off x="609876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755640" y="2421000"/>
            <a:ext cx="7632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contenida en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que es degradada hast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en condiciones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15 Prod ATP VG y CK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18"/>
          <p:cNvGrpSpPr/>
          <p:nvPr/>
        </p:nvGrpSpPr>
        <p:grpSpPr>
          <a:xfrm>
            <a:off x="2556000" y="144360"/>
            <a:ext cx="3311280" cy="3140280"/>
            <a:chOff x="2556000" y="144360"/>
            <a:chExt cx="3311280" cy="3140280"/>
          </a:xfrm>
        </p:grpSpPr>
        <p:sp>
          <p:nvSpPr>
            <p:cNvPr id="367" name="Rectangle 4"/>
            <p:cNvSpPr/>
            <p:nvPr/>
          </p:nvSpPr>
          <p:spPr>
            <a:xfrm>
              <a:off x="2556000" y="144360"/>
              <a:ext cx="3311280" cy="31402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 rot="19594800">
              <a:off x="2773440" y="8362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2855520" y="2881440"/>
            <a:ext cx="4459680" cy="3500280"/>
            <a:chOff x="2855520" y="2881440"/>
            <a:chExt cx="4459680" cy="3500280"/>
          </a:xfrm>
        </p:grpSpPr>
        <p:sp>
          <p:nvSpPr>
            <p:cNvPr id="370" name="Rectangle 5"/>
            <p:cNvSpPr/>
            <p:nvPr/>
          </p:nvSpPr>
          <p:spPr>
            <a:xfrm>
              <a:off x="2863800" y="2881440"/>
              <a:ext cx="4451400" cy="3500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7"/>
            <p:cNvSpPr/>
            <p:nvPr/>
          </p:nvSpPr>
          <p:spPr>
            <a:xfrm rot="19738800">
              <a:off x="2844720" y="349416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7"/>
          <p:cNvGrpSpPr/>
          <p:nvPr/>
        </p:nvGrpSpPr>
        <p:grpSpPr>
          <a:xfrm>
            <a:off x="6227640" y="2902320"/>
            <a:ext cx="1056960" cy="3399480"/>
            <a:chOff x="6227640" y="2902320"/>
            <a:chExt cx="1056960" cy="3399480"/>
          </a:xfrm>
        </p:grpSpPr>
        <p:sp>
          <p:nvSpPr>
            <p:cNvPr id="373" name="Line 10"/>
            <p:cNvSpPr/>
            <p:nvPr/>
          </p:nvSpPr>
          <p:spPr>
            <a:xfrm>
              <a:off x="6227640" y="3573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1"/>
            <p:cNvSpPr/>
            <p:nvPr/>
          </p:nvSpPr>
          <p:spPr>
            <a:xfrm>
              <a:off x="6227640" y="4797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2"/>
            <p:cNvSpPr/>
            <p:nvPr/>
          </p:nvSpPr>
          <p:spPr>
            <a:xfrm>
              <a:off x="6227640" y="5805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3"/>
            <p:cNvSpPr/>
            <p:nvPr/>
          </p:nvSpPr>
          <p:spPr>
            <a:xfrm rot="5400000">
              <a:off x="5416200" y="443340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AutoShape 14"/>
          <p:cNvSpPr/>
          <p:nvPr/>
        </p:nvSpPr>
        <p:spPr>
          <a:xfrm rot="18901800">
            <a:off x="6227640" y="1281240"/>
            <a:ext cx="719280" cy="2160360"/>
          </a:xfrm>
          <a:custGeom>
            <a:avLst/>
            <a:gdLst>
              <a:gd name="textAreaLeft" fmla="*/ 96120 w 719280"/>
              <a:gd name="textAreaRight" fmla="*/ 623160 w 719280"/>
              <a:gd name="textAreaTop" fmla="*/ 441720 h 2160360"/>
              <a:gd name="textAreaBottom" fmla="*/ 1502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2949160"/>
                <a:lnTo>
                  <a:pt x="7200" y="21095"/>
                </a:lnTo>
                <a:lnTo>
                  <a:pt x="0" y="18553"/>
                </a:lnTo>
                <a:lnTo>
                  <a:pt x="7200" y="15000"/>
                </a:lnTo>
                <a:lnTo>
                  <a:pt x="7200" y="17160"/>
                </a:lnTo>
                <a:arcTo wR="21600" hR="8833" stAng="2949160" swAng="-2807272"/>
                <a:lnTo>
                  <a:pt x="21491" y="9720"/>
                </a:lnTo>
                <a:arcTo wR="21600" hR="8833" stAng="-141888" swAng="-5258112"/>
                <a:close/>
              </a:path>
              <a:path fill="darkenLess"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-141888"/>
                <a:lnTo>
                  <a:pt x="21491" y="9720"/>
                </a:lnTo>
                <a:arcTo wR="21600" hR="8833" stAng="-141888" swAng="-525811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9"/>
          <p:cNvGrpSpPr/>
          <p:nvPr/>
        </p:nvGrpSpPr>
        <p:grpSpPr>
          <a:xfrm>
            <a:off x="611280" y="1557360"/>
            <a:ext cx="5689440" cy="3305160"/>
            <a:chOff x="611280" y="1557360"/>
            <a:chExt cx="5689440" cy="3305160"/>
          </a:xfrm>
        </p:grpSpPr>
        <p:sp>
          <p:nvSpPr>
            <p:cNvPr id="380" name="Text Box 4"/>
            <p:cNvSpPr/>
            <p:nvPr/>
          </p:nvSpPr>
          <p:spPr>
            <a:xfrm>
              <a:off x="611280" y="2781360"/>
              <a:ext cx="1800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Sistemas lanzad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2484360" y="1988640"/>
              <a:ext cx="1079640" cy="79236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"/>
            <p:cNvSpPr/>
            <p:nvPr/>
          </p:nvSpPr>
          <p:spPr>
            <a:xfrm>
              <a:off x="2484360" y="3573360"/>
              <a:ext cx="936720" cy="86364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7"/>
            <p:cNvSpPr/>
            <p:nvPr/>
          </p:nvSpPr>
          <p:spPr>
            <a:xfrm>
              <a:off x="3637080" y="1557360"/>
              <a:ext cx="23763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3492360" y="4037040"/>
              <a:ext cx="28083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4"/>
          <p:cNvGrpSpPr/>
          <p:nvPr/>
        </p:nvGrpSpPr>
        <p:grpSpPr>
          <a:xfrm>
            <a:off x="6083280" y="1123920"/>
            <a:ext cx="2840040" cy="1657440"/>
            <a:chOff x="6083280" y="1123920"/>
            <a:chExt cx="2840040" cy="1657440"/>
          </a:xfrm>
        </p:grpSpPr>
        <p:sp>
          <p:nvSpPr>
            <p:cNvPr id="386" name="AutoShape 10"/>
            <p:cNvSpPr/>
            <p:nvPr/>
          </p:nvSpPr>
          <p:spPr>
            <a:xfrm>
              <a:off x="6083280" y="112392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155280" y="1486080"/>
              <a:ext cx="2768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5"/>
          <p:cNvGrpSpPr/>
          <p:nvPr/>
        </p:nvGrpSpPr>
        <p:grpSpPr>
          <a:xfrm>
            <a:off x="6300720" y="3643200"/>
            <a:ext cx="1571400" cy="1657440"/>
            <a:chOff x="6300720" y="3643200"/>
            <a:chExt cx="1571400" cy="1657440"/>
          </a:xfrm>
        </p:grpSpPr>
        <p:sp>
          <p:nvSpPr>
            <p:cNvPr id="389" name="AutoShape 11"/>
            <p:cNvSpPr/>
            <p:nvPr/>
          </p:nvSpPr>
          <p:spPr>
            <a:xfrm>
              <a:off x="6300720" y="364320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6516720" y="3645000"/>
              <a:ext cx="1355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32"/>
          <p:cNvGrpSpPr/>
          <p:nvPr/>
        </p:nvGrpSpPr>
        <p:grpSpPr>
          <a:xfrm>
            <a:off x="1800360" y="693720"/>
            <a:ext cx="6048360" cy="5356080"/>
            <a:chOff x="1800360" y="693720"/>
            <a:chExt cx="6048360" cy="5356080"/>
          </a:xfrm>
        </p:grpSpPr>
        <p:grpSp>
          <p:nvGrpSpPr>
            <p:cNvPr id="392" name="Group 31"/>
            <p:cNvGrpSpPr/>
            <p:nvPr/>
          </p:nvGrpSpPr>
          <p:grpSpPr>
            <a:xfrm>
              <a:off x="1800360" y="693720"/>
              <a:ext cx="6048360" cy="5356080"/>
              <a:chOff x="1800360" y="693720"/>
              <a:chExt cx="6048360" cy="5356080"/>
            </a:xfrm>
          </p:grpSpPr>
          <p:pic>
            <p:nvPicPr>
              <p:cNvPr id="393" name="Picture 2" descr="3 Lanzadera G3P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800360" y="693720"/>
                <a:ext cx="6048360" cy="535608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394" name="Rectangle 3"/>
              <p:cNvSpPr/>
              <p:nvPr/>
            </p:nvSpPr>
            <p:spPr>
              <a:xfrm>
                <a:off x="1869840" y="811080"/>
                <a:ext cx="363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</a:rPr>
                  <a:t>Lanzadera del glicerofosf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Oval 29"/>
            <p:cNvSpPr/>
            <p:nvPr/>
          </p:nvSpPr>
          <p:spPr>
            <a:xfrm>
              <a:off x="3276720" y="508464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4"/>
          <p:cNvGrpSpPr/>
          <p:nvPr/>
        </p:nvGrpSpPr>
        <p:grpSpPr>
          <a:xfrm>
            <a:off x="1728720" y="1557360"/>
            <a:ext cx="1944720" cy="647640"/>
            <a:chOff x="1728720" y="1557360"/>
            <a:chExt cx="1944720" cy="647640"/>
          </a:xfrm>
        </p:grpSpPr>
        <p:sp>
          <p:nvSpPr>
            <p:cNvPr id="397" name="Rectangle 4"/>
            <p:cNvSpPr/>
            <p:nvPr/>
          </p:nvSpPr>
          <p:spPr>
            <a:xfrm>
              <a:off x="2521080" y="1557360"/>
              <a:ext cx="1152360" cy="360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4"/>
            <p:cNvSpPr/>
            <p:nvPr/>
          </p:nvSpPr>
          <p:spPr>
            <a:xfrm flipV="1">
              <a:off x="1728720" y="1917720"/>
              <a:ext cx="7207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3"/>
          <p:cNvGrpSpPr/>
          <p:nvPr/>
        </p:nvGrpSpPr>
        <p:grpSpPr>
          <a:xfrm>
            <a:off x="1728720" y="3868560"/>
            <a:ext cx="1042920" cy="487800"/>
            <a:chOff x="1728720" y="3868560"/>
            <a:chExt cx="1042920" cy="487800"/>
          </a:xfrm>
        </p:grpSpPr>
        <p:sp>
          <p:nvSpPr>
            <p:cNvPr id="400" name="Line 16"/>
            <p:cNvSpPr/>
            <p:nvPr/>
          </p:nvSpPr>
          <p:spPr>
            <a:xfrm>
              <a:off x="1728720" y="4005000"/>
              <a:ext cx="10429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5"/>
            <p:cNvSpPr/>
            <p:nvPr/>
          </p:nvSpPr>
          <p:spPr>
            <a:xfrm rot="886800">
              <a:off x="1936800" y="3933360"/>
              <a:ext cx="556560" cy="35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2"/>
          <p:cNvGrpSpPr/>
          <p:nvPr/>
        </p:nvGrpSpPr>
        <p:grpSpPr>
          <a:xfrm>
            <a:off x="196560" y="549360"/>
            <a:ext cx="1604160" cy="3607920"/>
            <a:chOff x="196560" y="549360"/>
            <a:chExt cx="1604160" cy="3607920"/>
          </a:xfrm>
        </p:grpSpPr>
        <p:sp>
          <p:nvSpPr>
            <p:cNvPr id="403" name="Text Box 6"/>
            <p:cNvSpPr/>
            <p:nvPr/>
          </p:nvSpPr>
          <p:spPr>
            <a:xfrm>
              <a:off x="196560" y="54936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7"/>
            <p:cNvSpPr/>
            <p:nvPr/>
          </p:nvSpPr>
          <p:spPr>
            <a:xfrm>
              <a:off x="792000" y="2565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8"/>
            <p:cNvSpPr/>
            <p:nvPr/>
          </p:nvSpPr>
          <p:spPr>
            <a:xfrm>
              <a:off x="198360" y="37890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279000" y="23428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>
              <a:off x="792000" y="1993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 flipH="1">
              <a:off x="791640" y="141264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2"/>
            <p:cNvSpPr/>
            <p:nvPr/>
          </p:nvSpPr>
          <p:spPr>
            <a:xfrm>
              <a:off x="1223640" y="105372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865080" y="206208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7"/>
            <p:cNvSpPr/>
            <p:nvPr/>
          </p:nvSpPr>
          <p:spPr>
            <a:xfrm>
              <a:off x="792000" y="321300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8"/>
            <p:cNvSpPr/>
            <p:nvPr/>
          </p:nvSpPr>
          <p:spPr>
            <a:xfrm>
              <a:off x="1296720" y="141444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9"/>
            <p:cNvSpPr/>
            <p:nvPr/>
          </p:nvSpPr>
          <p:spPr>
            <a:xfrm>
              <a:off x="936360" y="184464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0"/>
            <p:cNvSpPr/>
            <p:nvPr/>
          </p:nvSpPr>
          <p:spPr>
            <a:xfrm>
              <a:off x="1297080" y="17017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1"/>
            <p:cNvSpPr/>
            <p:nvPr/>
          </p:nvSpPr>
          <p:spPr>
            <a:xfrm>
              <a:off x="431280" y="170172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25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6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7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8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33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5"/>
          <p:cNvSpPr/>
          <p:nvPr/>
        </p:nvSpPr>
        <p:spPr>
          <a:xfrm>
            <a:off x="2829960" y="407196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s-E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6"/>
          <p:cNvSpPr/>
          <p:nvPr/>
        </p:nvSpPr>
        <p:spPr>
          <a:xfrm>
            <a:off x="1835280" y="1844640"/>
            <a:ext cx="1008000" cy="576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7"/>
          <p:cNvSpPr/>
          <p:nvPr/>
        </p:nvSpPr>
        <p:spPr>
          <a:xfrm>
            <a:off x="5796000" y="2349360"/>
            <a:ext cx="1224000" cy="35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6300720" y="2708280"/>
            <a:ext cx="216000" cy="7920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5" dur="1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"/>
          <p:cNvGrpSpPr/>
          <p:nvPr/>
        </p:nvGrpSpPr>
        <p:grpSpPr>
          <a:xfrm>
            <a:off x="1979640" y="620640"/>
            <a:ext cx="6985080" cy="5545080"/>
            <a:chOff x="1979640" y="620640"/>
            <a:chExt cx="6985080" cy="5545080"/>
          </a:xfrm>
        </p:grpSpPr>
        <p:pic>
          <p:nvPicPr>
            <p:cNvPr id="426" name="Picture 2" descr="4 Lanzadera Mal-Asp"/>
            <p:cNvPicPr/>
            <p:nvPr/>
          </p:nvPicPr>
          <p:blipFill>
            <a:blip r:embed="rId1">
              <a:grayscl/>
            </a:blip>
            <a:srcRect l="6907" t="0" r="7357" b="37399"/>
            <a:stretch/>
          </p:blipFill>
          <p:spPr>
            <a:xfrm>
              <a:off x="1979640" y="663480"/>
              <a:ext cx="6985080" cy="55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Rectangle 3"/>
            <p:cNvSpPr/>
            <p:nvPr/>
          </p:nvSpPr>
          <p:spPr>
            <a:xfrm>
              <a:off x="2014920" y="620640"/>
              <a:ext cx="40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"/>
          <p:cNvGrpSpPr/>
          <p:nvPr/>
        </p:nvGrpSpPr>
        <p:grpSpPr>
          <a:xfrm>
            <a:off x="303120" y="1805040"/>
            <a:ext cx="1604160" cy="3607920"/>
            <a:chOff x="303120" y="1805040"/>
            <a:chExt cx="1604160" cy="3607920"/>
          </a:xfrm>
        </p:grpSpPr>
        <p:sp>
          <p:nvSpPr>
            <p:cNvPr id="429" name="Text Box 6"/>
            <p:cNvSpPr/>
            <p:nvPr/>
          </p:nvSpPr>
          <p:spPr>
            <a:xfrm>
              <a:off x="303120" y="180504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>
              <a:off x="898560" y="382104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8"/>
            <p:cNvSpPr/>
            <p:nvPr/>
          </p:nvSpPr>
          <p:spPr>
            <a:xfrm>
              <a:off x="304920" y="504468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9"/>
            <p:cNvSpPr/>
            <p:nvPr/>
          </p:nvSpPr>
          <p:spPr>
            <a:xfrm>
              <a:off x="385560" y="35985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0"/>
            <p:cNvSpPr/>
            <p:nvPr/>
          </p:nvSpPr>
          <p:spPr>
            <a:xfrm>
              <a:off x="898560" y="3249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 flipH="1">
              <a:off x="898200" y="266832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2"/>
            <p:cNvSpPr/>
            <p:nvPr/>
          </p:nvSpPr>
          <p:spPr>
            <a:xfrm>
              <a:off x="1330200" y="230940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3"/>
            <p:cNvSpPr/>
            <p:nvPr/>
          </p:nvSpPr>
          <p:spPr>
            <a:xfrm>
              <a:off x="971640" y="331776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898560" y="4468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5"/>
            <p:cNvSpPr/>
            <p:nvPr/>
          </p:nvSpPr>
          <p:spPr>
            <a:xfrm>
              <a:off x="1403280" y="267012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>
              <a:off x="1042920" y="310032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1403640" y="295740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8"/>
            <p:cNvSpPr/>
            <p:nvPr/>
          </p:nvSpPr>
          <p:spPr>
            <a:xfrm>
              <a:off x="537840" y="295740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2"/>
          <p:cNvGrpSpPr/>
          <p:nvPr/>
        </p:nvGrpSpPr>
        <p:grpSpPr>
          <a:xfrm>
            <a:off x="1835280" y="3357720"/>
            <a:ext cx="1584360" cy="288720"/>
            <a:chOff x="1835280" y="3357720"/>
            <a:chExt cx="1584360" cy="288720"/>
          </a:xfrm>
        </p:grpSpPr>
        <p:sp>
          <p:nvSpPr>
            <p:cNvPr id="443" name="Rectangle 20"/>
            <p:cNvSpPr/>
            <p:nvPr/>
          </p:nvSpPr>
          <p:spPr>
            <a:xfrm>
              <a:off x="2411280" y="3357720"/>
              <a:ext cx="1008360" cy="2887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1"/>
            <p:cNvSpPr/>
            <p:nvPr/>
          </p:nvSpPr>
          <p:spPr>
            <a:xfrm>
              <a:off x="1835280" y="3500280"/>
              <a:ext cx="50472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Oval 23"/>
          <p:cNvSpPr/>
          <p:nvPr/>
        </p:nvSpPr>
        <p:spPr>
          <a:xfrm>
            <a:off x="2771640" y="2924280"/>
            <a:ext cx="648000" cy="36036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5"/>
          <p:cNvSpPr/>
          <p:nvPr/>
        </p:nvSpPr>
        <p:spPr>
          <a:xfrm>
            <a:off x="2771640" y="2492280"/>
            <a:ext cx="57636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6"/>
          <p:cNvSpPr/>
          <p:nvPr/>
        </p:nvSpPr>
        <p:spPr>
          <a:xfrm flipH="1">
            <a:off x="1836360" y="2205000"/>
            <a:ext cx="863640" cy="1152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7"/>
          <p:cNvSpPr/>
          <p:nvPr/>
        </p:nvSpPr>
        <p:spPr>
          <a:xfrm>
            <a:off x="334800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630072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9"/>
          <p:cNvSpPr/>
          <p:nvPr/>
        </p:nvSpPr>
        <p:spPr>
          <a:xfrm>
            <a:off x="4067280" y="2349360"/>
            <a:ext cx="216036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0"/>
          <p:cNvSpPr/>
          <p:nvPr/>
        </p:nvSpPr>
        <p:spPr>
          <a:xfrm>
            <a:off x="6877080" y="2852640"/>
            <a:ext cx="647640" cy="360360"/>
          </a:xfrm>
          <a:prstGeom prst="ellipse">
            <a:avLst/>
          </a:prstGeom>
          <a:solidFill>
            <a:srgbClr val="00ff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1"/>
          <p:cNvSpPr/>
          <p:nvPr/>
        </p:nvSpPr>
        <p:spPr>
          <a:xfrm>
            <a:off x="6875640" y="2492280"/>
            <a:ext cx="57600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6948360" y="3284640"/>
            <a:ext cx="576360" cy="431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3"/>
          <p:cNvSpPr/>
          <p:nvPr/>
        </p:nvSpPr>
        <p:spPr>
          <a:xfrm>
            <a:off x="8604360" y="3068640"/>
            <a:ext cx="3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8"/>
          <p:cNvGrpSpPr/>
          <p:nvPr/>
        </p:nvGrpSpPr>
        <p:grpSpPr>
          <a:xfrm>
            <a:off x="4932360" y="2205000"/>
            <a:ext cx="503280" cy="719280"/>
            <a:chOff x="4932360" y="2205000"/>
            <a:chExt cx="503280" cy="719280"/>
          </a:xfrm>
        </p:grpSpPr>
        <p:sp>
          <p:nvSpPr>
            <p:cNvPr id="456" name="Oval 36"/>
            <p:cNvSpPr/>
            <p:nvPr/>
          </p:nvSpPr>
          <p:spPr>
            <a:xfrm>
              <a:off x="4932360" y="2205000"/>
              <a:ext cx="503280" cy="432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7"/>
            <p:cNvSpPr/>
            <p:nvPr/>
          </p:nvSpPr>
          <p:spPr>
            <a:xfrm>
              <a:off x="4932360" y="2565360"/>
              <a:ext cx="503280" cy="3589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9"/>
          <p:cNvGrpSpPr/>
          <p:nvPr/>
        </p:nvGrpSpPr>
        <p:grpSpPr>
          <a:xfrm>
            <a:off x="5003640" y="4870440"/>
            <a:ext cx="503280" cy="719280"/>
            <a:chOff x="5003640" y="4870440"/>
            <a:chExt cx="503280" cy="719280"/>
          </a:xfrm>
        </p:grpSpPr>
        <p:sp>
          <p:nvSpPr>
            <p:cNvPr id="459" name="Oval 40"/>
            <p:cNvSpPr/>
            <p:nvPr/>
          </p:nvSpPr>
          <p:spPr>
            <a:xfrm>
              <a:off x="5003640" y="4870440"/>
              <a:ext cx="503280" cy="4320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41"/>
            <p:cNvSpPr/>
            <p:nvPr/>
          </p:nvSpPr>
          <p:spPr>
            <a:xfrm>
              <a:off x="5003640" y="5230800"/>
              <a:ext cx="503280" cy="358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684360" y="3429000"/>
            <a:ext cx="779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Las </a:t>
            </a:r>
            <a:r>
              <a:rPr b="1" lang="es-ES" sz="2400" spc="-1" strike="noStrike">
                <a:solidFill>
                  <a:srgbClr val="008000"/>
                </a:solidFill>
                <a:latin typeface="Comic Sans MS"/>
              </a:rPr>
              <a:t>mitocondrias de las células vegetale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" sz="2400" spc="-1" strike="noStrike" u="sng">
                <a:solidFill>
                  <a:srgbClr val="ff3399"/>
                </a:solidFill>
                <a:uFillTx/>
                <a:latin typeface="Comic Sans MS"/>
              </a:rPr>
              <a:t>no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poseen estos sistemas de lanzadera sino que son capaces de oxidar el NADH (vía glicolítica) o el NADPH (vía de las pentosas) directamente a través de </a:t>
            </a:r>
            <a:r>
              <a:rPr b="1" lang="es-ES" sz="2400" spc="-1" strike="noStrike">
                <a:solidFill>
                  <a:srgbClr val="99cc00"/>
                </a:solidFill>
                <a:latin typeface="Comic Sans MS"/>
              </a:rPr>
              <a:t>NADH o NADPH deshidrogenasa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localizadas en la </a:t>
            </a:r>
            <a:r>
              <a:rPr b="1" lang="es-ES" sz="2400" spc="-1" strike="noStrike">
                <a:solidFill>
                  <a:srgbClr val="00b050"/>
                </a:solidFill>
                <a:latin typeface="Comic Sans MS"/>
              </a:rPr>
              <a:t>cara externa de la membrana interna de las mitocondria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Imagen 1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520092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15 Prod ATP VG y CK"/>
          <p:cNvPicPr/>
          <p:nvPr/>
        </p:nvPicPr>
        <p:blipFill>
          <a:blip r:embed="rId1"/>
          <a:srcRect l="0" t="10438" r="20668" b="0"/>
          <a:stretch/>
        </p:blipFill>
        <p:spPr>
          <a:xfrm>
            <a:off x="55440" y="189000"/>
            <a:ext cx="5092920" cy="66690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"/>
          <p:cNvSpPr/>
          <p:nvPr/>
        </p:nvSpPr>
        <p:spPr>
          <a:xfrm>
            <a:off x="5076720" y="157320"/>
            <a:ext cx="3924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contenida en un mol de 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co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4932360" y="1844640"/>
            <a:ext cx="2954880" cy="243720"/>
            <a:chOff x="4932360" y="1844640"/>
            <a:chExt cx="2954880" cy="243720"/>
          </a:xfrm>
        </p:grpSpPr>
        <p:sp>
          <p:nvSpPr>
            <p:cNvPr id="466" name="Line 4"/>
            <p:cNvSpPr/>
            <p:nvPr/>
          </p:nvSpPr>
          <p:spPr>
            <a:xfrm>
              <a:off x="4932360" y="1989000"/>
              <a:ext cx="71928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5"/>
            <p:cNvSpPr/>
            <p:nvPr/>
          </p:nvSpPr>
          <p:spPr>
            <a:xfrm>
              <a:off x="5744520" y="1844640"/>
              <a:ext cx="755280" cy="24372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588000" y="1989000"/>
              <a:ext cx="64800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11960" y="1844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9"/>
          <p:cNvGrpSpPr/>
          <p:nvPr/>
        </p:nvGrpSpPr>
        <p:grpSpPr>
          <a:xfrm>
            <a:off x="4967280" y="2644920"/>
            <a:ext cx="1616400" cy="277200"/>
            <a:chOff x="4967280" y="2644920"/>
            <a:chExt cx="1616400" cy="277200"/>
          </a:xfrm>
        </p:grpSpPr>
        <p:sp>
          <p:nvSpPr>
            <p:cNvPr id="471" name="Line 9"/>
            <p:cNvSpPr/>
            <p:nvPr/>
          </p:nvSpPr>
          <p:spPr>
            <a:xfrm>
              <a:off x="4967280" y="2789280"/>
              <a:ext cx="71928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0"/>
            <p:cNvSpPr/>
            <p:nvPr/>
          </p:nvSpPr>
          <p:spPr>
            <a:xfrm>
              <a:off x="5785920" y="2644920"/>
              <a:ext cx="797760" cy="27720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2 FAD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30"/>
          <p:cNvGrpSpPr/>
          <p:nvPr/>
        </p:nvGrpSpPr>
        <p:grpSpPr>
          <a:xfrm>
            <a:off x="6622920" y="2644920"/>
            <a:ext cx="1299240" cy="243720"/>
            <a:chOff x="6622920" y="2644920"/>
            <a:chExt cx="1299240" cy="243720"/>
          </a:xfrm>
        </p:grpSpPr>
        <p:sp>
          <p:nvSpPr>
            <p:cNvPr id="474" name="Line 11"/>
            <p:cNvSpPr/>
            <p:nvPr/>
          </p:nvSpPr>
          <p:spPr>
            <a:xfrm>
              <a:off x="6622920" y="2789280"/>
              <a:ext cx="64800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2"/>
            <p:cNvSpPr/>
            <p:nvPr/>
          </p:nvSpPr>
          <p:spPr>
            <a:xfrm>
              <a:off x="7346880" y="2644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1"/>
          <p:cNvGrpSpPr/>
          <p:nvPr/>
        </p:nvGrpSpPr>
        <p:grpSpPr>
          <a:xfrm>
            <a:off x="3851280" y="3429000"/>
            <a:ext cx="4070880" cy="243720"/>
            <a:chOff x="3851280" y="3429000"/>
            <a:chExt cx="4070880" cy="243720"/>
          </a:xfrm>
        </p:grpSpPr>
        <p:sp>
          <p:nvSpPr>
            <p:cNvPr id="477" name="Line 13"/>
            <p:cNvSpPr/>
            <p:nvPr/>
          </p:nvSpPr>
          <p:spPr>
            <a:xfrm>
              <a:off x="3851280" y="3573360"/>
              <a:ext cx="338472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4"/>
            <p:cNvSpPr/>
            <p:nvPr/>
          </p:nvSpPr>
          <p:spPr>
            <a:xfrm>
              <a:off x="7346880" y="34290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32"/>
          <p:cNvGrpSpPr/>
          <p:nvPr/>
        </p:nvGrpSpPr>
        <p:grpSpPr>
          <a:xfrm>
            <a:off x="3780000" y="4724280"/>
            <a:ext cx="4071960" cy="243720"/>
            <a:chOff x="3780000" y="4724280"/>
            <a:chExt cx="4071960" cy="243720"/>
          </a:xfrm>
        </p:grpSpPr>
        <p:sp>
          <p:nvSpPr>
            <p:cNvPr id="480" name="Line 15"/>
            <p:cNvSpPr/>
            <p:nvPr/>
          </p:nvSpPr>
          <p:spPr>
            <a:xfrm>
              <a:off x="3780000" y="486900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6"/>
            <p:cNvSpPr/>
            <p:nvPr/>
          </p:nvSpPr>
          <p:spPr>
            <a:xfrm>
              <a:off x="7164000" y="47242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18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33"/>
          <p:cNvGrpSpPr/>
          <p:nvPr/>
        </p:nvGrpSpPr>
        <p:grpSpPr>
          <a:xfrm>
            <a:off x="3780000" y="5705640"/>
            <a:ext cx="4070520" cy="243720"/>
            <a:chOff x="3780000" y="5705640"/>
            <a:chExt cx="4070520" cy="243720"/>
          </a:xfrm>
        </p:grpSpPr>
        <p:sp>
          <p:nvSpPr>
            <p:cNvPr id="483" name="Line 17"/>
            <p:cNvSpPr/>
            <p:nvPr/>
          </p:nvSpPr>
          <p:spPr>
            <a:xfrm>
              <a:off x="3780000" y="585000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8"/>
            <p:cNvSpPr/>
            <p:nvPr/>
          </p:nvSpPr>
          <p:spPr>
            <a:xfrm>
              <a:off x="7275240" y="5705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34"/>
          <p:cNvGrpSpPr/>
          <p:nvPr/>
        </p:nvGrpSpPr>
        <p:grpSpPr>
          <a:xfrm>
            <a:off x="3780000" y="5992920"/>
            <a:ext cx="4070520" cy="243720"/>
            <a:chOff x="3780000" y="5992920"/>
            <a:chExt cx="4070520" cy="243720"/>
          </a:xfrm>
        </p:grpSpPr>
        <p:sp>
          <p:nvSpPr>
            <p:cNvPr id="486" name="Line 19"/>
            <p:cNvSpPr/>
            <p:nvPr/>
          </p:nvSpPr>
          <p:spPr>
            <a:xfrm>
              <a:off x="3780000" y="613728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0"/>
            <p:cNvSpPr/>
            <p:nvPr/>
          </p:nvSpPr>
          <p:spPr>
            <a:xfrm>
              <a:off x="7275240" y="5992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35"/>
          <p:cNvGrpSpPr/>
          <p:nvPr/>
        </p:nvGrpSpPr>
        <p:grpSpPr>
          <a:xfrm>
            <a:off x="3780000" y="6165720"/>
            <a:ext cx="4070520" cy="243720"/>
            <a:chOff x="3780000" y="6165720"/>
            <a:chExt cx="4070520" cy="243720"/>
          </a:xfrm>
        </p:grpSpPr>
        <p:sp>
          <p:nvSpPr>
            <p:cNvPr id="489" name="Line 21"/>
            <p:cNvSpPr/>
            <p:nvPr/>
          </p:nvSpPr>
          <p:spPr>
            <a:xfrm>
              <a:off x="3780000" y="631044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22"/>
            <p:cNvSpPr/>
            <p:nvPr/>
          </p:nvSpPr>
          <p:spPr>
            <a:xfrm>
              <a:off x="7275240" y="6165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23"/>
          <p:cNvSpPr/>
          <p:nvPr/>
        </p:nvSpPr>
        <p:spPr>
          <a:xfrm>
            <a:off x="2842920" y="2492280"/>
            <a:ext cx="156240" cy="305280"/>
          </a:xfrm>
          <a:prstGeom prst="rect">
            <a:avLst/>
          </a:prstGeom>
          <a:solidFill>
            <a:srgbClr val="f6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607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751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8"/>
          <p:cNvGrpSpPr/>
          <p:nvPr/>
        </p:nvGrpSpPr>
        <p:grpSpPr>
          <a:xfrm>
            <a:off x="6948360" y="6453360"/>
            <a:ext cx="1368720" cy="274680"/>
            <a:chOff x="6948360" y="6453360"/>
            <a:chExt cx="1368720" cy="274680"/>
          </a:xfrm>
        </p:grpSpPr>
        <p:sp>
          <p:nvSpPr>
            <p:cNvPr id="495" name="Text Box 26"/>
            <p:cNvSpPr/>
            <p:nvPr/>
          </p:nvSpPr>
          <p:spPr>
            <a:xfrm>
              <a:off x="6948360" y="6453360"/>
              <a:ext cx="12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6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 38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6948360" y="6453360"/>
              <a:ext cx="1368720" cy="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4"/>
          <p:cNvSpPr/>
          <p:nvPr/>
        </p:nvSpPr>
        <p:spPr>
          <a:xfrm>
            <a:off x="6181920" y="6284880"/>
            <a:ext cx="213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fecto Pas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" descr="200px-Tableau_Louis_Pasteur"/>
          <p:cNvPicPr/>
          <p:nvPr/>
        </p:nvPicPr>
        <p:blipFill>
          <a:blip r:embed="rId1"/>
          <a:stretch/>
        </p:blipFill>
        <p:spPr>
          <a:xfrm>
            <a:off x="655560" y="836640"/>
            <a:ext cx="3102120" cy="36748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6"/>
          <p:cNvSpPr/>
          <p:nvPr/>
        </p:nvSpPr>
        <p:spPr>
          <a:xfrm>
            <a:off x="663480" y="4529160"/>
            <a:ext cx="31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uis Pasteur (1822-1895), químico francés cuyos descubrimientos tuvieron enorme importancia en diversos campos de las ciencias na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medio_sabourad_crecimiento_levaduras"/>
          <p:cNvPicPr/>
          <p:nvPr/>
        </p:nvPicPr>
        <p:blipFill>
          <a:blip r:embed="rId2"/>
          <a:stretch/>
        </p:blipFill>
        <p:spPr>
          <a:xfrm rot="7775400">
            <a:off x="7241040" y="295920"/>
            <a:ext cx="93672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35"/>
          <p:cNvGrpSpPr/>
          <p:nvPr/>
        </p:nvGrpSpPr>
        <p:grpSpPr>
          <a:xfrm>
            <a:off x="4111560" y="549360"/>
            <a:ext cx="2589120" cy="1439640"/>
            <a:chOff x="4111560" y="549360"/>
            <a:chExt cx="2589120" cy="1439640"/>
          </a:xfrm>
        </p:grpSpPr>
        <p:pic>
          <p:nvPicPr>
            <p:cNvPr id="502" name="Picture 7" descr="Conical_flask"/>
            <p:cNvPicPr/>
            <p:nvPr/>
          </p:nvPicPr>
          <p:blipFill>
            <a:blip r:embed="rId3"/>
            <a:stretch/>
          </p:blipFill>
          <p:spPr>
            <a:xfrm>
              <a:off x="5692680" y="549360"/>
              <a:ext cx="10080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11"/>
            <p:cNvSpPr/>
            <p:nvPr/>
          </p:nvSpPr>
          <p:spPr>
            <a:xfrm>
              <a:off x="4111560" y="1484280"/>
              <a:ext cx="1587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dio de cul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(Glucos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Arc 12"/>
          <p:cNvSpPr/>
          <p:nvPr/>
        </p:nvSpPr>
        <p:spPr>
          <a:xfrm flipH="1" rot="21455400">
            <a:off x="6195960" y="188640"/>
            <a:ext cx="925560" cy="301680"/>
          </a:xfrm>
          <a:custGeom>
            <a:avLst/>
            <a:gdLst>
              <a:gd name="textAreaLeft" fmla="*/ -360 w 925560"/>
              <a:gd name="textAreaRight" fmla="*/ 925560 w 9255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fill="none" w="42649" h="22748">
                <a:moveTo>
                  <a:pt x="-1" y="16753"/>
                </a:moveTo>
                <a:cubicBezTo>
                  <a:pt x="2257" y="6948"/>
                  <a:pt x="10986" y="-1"/>
                  <a:pt x="21049" y="0"/>
                </a:cubicBezTo>
                <a:cubicBezTo>
                  <a:pt x="32978" y="0"/>
                  <a:pt x="42649" y="9670"/>
                  <a:pt x="42649" y="21600"/>
                </a:cubicBezTo>
                <a:cubicBezTo>
                  <a:pt x="42649" y="21982"/>
                  <a:pt x="42638" y="22365"/>
                  <a:pt x="42618" y="22748"/>
                </a:cubicBezTo>
              </a:path>
              <a:path stroke="0" w="42649" h="22748">
                <a:moveTo>
                  <a:pt x="-1" y="16753"/>
                </a:moveTo>
                <a:cubicBezTo>
                  <a:pt x="2257" y="6948"/>
                  <a:pt x="10986" y="-1"/>
                  <a:pt x="21049" y="0"/>
                </a:cubicBezTo>
                <a:cubicBezTo>
                  <a:pt x="32978" y="0"/>
                  <a:pt x="42649" y="9670"/>
                  <a:pt x="42649" y="21600"/>
                </a:cubicBezTo>
                <a:cubicBezTo>
                  <a:pt x="42649" y="21982"/>
                  <a:pt x="42638" y="22365"/>
                  <a:pt x="42618" y="22748"/>
                </a:cubicBezTo>
                <a:lnTo>
                  <a:pt x="21049" y="21600"/>
                </a:lnTo>
                <a:lnTo>
                  <a:pt x="-1" y="1675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41"/>
          <p:cNvGrpSpPr/>
          <p:nvPr/>
        </p:nvGrpSpPr>
        <p:grpSpPr>
          <a:xfrm>
            <a:off x="5187960" y="4365720"/>
            <a:ext cx="2017800" cy="1079280"/>
            <a:chOff x="5187960" y="4365720"/>
            <a:chExt cx="2017800" cy="1079280"/>
          </a:xfrm>
        </p:grpSpPr>
        <p:sp>
          <p:nvSpPr>
            <p:cNvPr id="506" name="Text Box 23"/>
            <p:cNvSpPr/>
            <p:nvPr/>
          </p:nvSpPr>
          <p:spPr>
            <a:xfrm>
              <a:off x="5839200" y="451656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4 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4"/>
            <p:cNvSpPr/>
            <p:nvPr/>
          </p:nvSpPr>
          <p:spPr>
            <a:xfrm>
              <a:off x="5187960" y="4508640"/>
              <a:ext cx="0" cy="936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5"/>
            <p:cNvSpPr/>
            <p:nvPr/>
          </p:nvSpPr>
          <p:spPr>
            <a:xfrm>
              <a:off x="7205760" y="4365720"/>
              <a:ext cx="0" cy="1079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39"/>
          <p:cNvGrpSpPr/>
          <p:nvPr/>
        </p:nvGrpSpPr>
        <p:grpSpPr>
          <a:xfrm>
            <a:off x="4813200" y="5632560"/>
            <a:ext cx="979200" cy="388800"/>
            <a:chOff x="4813200" y="5632560"/>
            <a:chExt cx="979200" cy="388800"/>
          </a:xfrm>
        </p:grpSpPr>
        <p:sp>
          <p:nvSpPr>
            <p:cNvPr id="510" name="Line 26"/>
            <p:cNvSpPr/>
            <p:nvPr/>
          </p:nvSpPr>
          <p:spPr>
            <a:xfrm>
              <a:off x="4829040" y="5661000"/>
              <a:ext cx="0" cy="36036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7"/>
            <p:cNvSpPr/>
            <p:nvPr/>
          </p:nvSpPr>
          <p:spPr>
            <a:xfrm>
              <a:off x="4813200" y="563256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Arial"/>
                </a:rPr>
                <a:t>Gluc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40"/>
          <p:cNvGrpSpPr/>
          <p:nvPr/>
        </p:nvGrpSpPr>
        <p:grpSpPr>
          <a:xfrm>
            <a:off x="6700680" y="5661000"/>
            <a:ext cx="1058040" cy="360360"/>
            <a:chOff x="6700680" y="5661000"/>
            <a:chExt cx="1058040" cy="360360"/>
          </a:xfrm>
        </p:grpSpPr>
        <p:sp>
          <p:nvSpPr>
            <p:cNvPr id="513" name="Text Box 28"/>
            <p:cNvSpPr/>
            <p:nvPr/>
          </p:nvSpPr>
          <p:spPr>
            <a:xfrm>
              <a:off x="6974640" y="56610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9"/>
            <p:cNvSpPr/>
            <p:nvPr/>
          </p:nvSpPr>
          <p:spPr>
            <a:xfrm>
              <a:off x="670068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30"/>
            <p:cNvSpPr/>
            <p:nvPr/>
          </p:nvSpPr>
          <p:spPr>
            <a:xfrm>
              <a:off x="684540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1"/>
            <p:cNvSpPr/>
            <p:nvPr/>
          </p:nvSpPr>
          <p:spPr>
            <a:xfrm>
              <a:off x="698832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36"/>
          <p:cNvGrpSpPr/>
          <p:nvPr/>
        </p:nvGrpSpPr>
        <p:grpSpPr>
          <a:xfrm>
            <a:off x="4614840" y="2060640"/>
            <a:ext cx="1361880" cy="2384280"/>
            <a:chOff x="4614840" y="2060640"/>
            <a:chExt cx="1361880" cy="2384280"/>
          </a:xfrm>
        </p:grpSpPr>
        <p:pic>
          <p:nvPicPr>
            <p:cNvPr id="518" name="Picture 9" descr="Conical_flask"/>
            <p:cNvPicPr/>
            <p:nvPr/>
          </p:nvPicPr>
          <p:blipFill>
            <a:blip r:embed="rId4"/>
            <a:stretch/>
          </p:blipFill>
          <p:spPr>
            <a:xfrm>
              <a:off x="4684680" y="2349360"/>
              <a:ext cx="10080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Line 13"/>
            <p:cNvSpPr/>
            <p:nvPr/>
          </p:nvSpPr>
          <p:spPr>
            <a:xfrm flipH="1">
              <a:off x="5476680" y="2060640"/>
              <a:ext cx="43164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5"/>
            <p:cNvSpPr/>
            <p:nvPr/>
          </p:nvSpPr>
          <p:spPr>
            <a:xfrm>
              <a:off x="5045040" y="2276640"/>
              <a:ext cx="289080" cy="215640"/>
            </a:xfrm>
            <a:custGeom>
              <a:avLst/>
              <a:gdLst>
                <a:gd name="textAreaLeft" fmla="*/ 60120 w 289080"/>
                <a:gd name="textAreaRight" fmla="*/ 228960 w 289080"/>
                <a:gd name="textAreaTop" fmla="*/ 44280 h 215640"/>
                <a:gd name="textAreaBottom" fmla="*/ 17136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rc 20"/>
            <p:cNvSpPr/>
            <p:nvPr/>
          </p:nvSpPr>
          <p:spPr>
            <a:xfrm flipH="1">
              <a:off x="4829040" y="3860640"/>
              <a:ext cx="720720" cy="216000"/>
            </a:xfrm>
            <a:custGeom>
              <a:avLst/>
              <a:gdLst>
                <a:gd name="textAreaLeft" fmla="*/ 360 w 720720"/>
                <a:gd name="textAreaRight" fmla="*/ 721440 w 72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-32636" y="-25528"/>
                  </a:moveTo>
                  <a:cubicBezTo>
                    <a:pt x="29500" y="-23441"/>
                    <a:pt x="25589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3378"/>
                    <a:pt x="-22556" y="25150"/>
                    <a:pt x="-22991" y="26874"/>
                  </a:cubicBezTo>
                </a:path>
                <a:path stroke="0" w="43200" h="43200">
                  <a:moveTo>
                    <a:pt x="-32636" y="-25528"/>
                  </a:moveTo>
                  <a:cubicBezTo>
                    <a:pt x="29500" y="-23441"/>
                    <a:pt x="25589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3378"/>
                    <a:pt x="-22556" y="25150"/>
                    <a:pt x="-22991" y="26874"/>
                  </a:cubicBezTo>
                  <a:lnTo>
                    <a:pt x="21600" y="21600"/>
                  </a:lnTo>
                  <a:lnTo>
                    <a:pt x="-32636" y="-25528"/>
                  </a:lnTo>
                  <a:close/>
                </a:path>
              </a:pathLst>
            </a:custGeom>
            <a:noFill/>
            <a:ln w="381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2"/>
            <p:cNvSpPr/>
            <p:nvPr/>
          </p:nvSpPr>
          <p:spPr>
            <a:xfrm>
              <a:off x="4614840" y="407664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37"/>
          <p:cNvGrpSpPr/>
          <p:nvPr/>
        </p:nvGrpSpPr>
        <p:grpSpPr>
          <a:xfrm>
            <a:off x="6342120" y="2060640"/>
            <a:ext cx="1628640" cy="2241360"/>
            <a:chOff x="6342120" y="2060640"/>
            <a:chExt cx="1628640" cy="2241360"/>
          </a:xfrm>
        </p:grpSpPr>
        <p:pic>
          <p:nvPicPr>
            <p:cNvPr id="524" name="Picture 10" descr="Conical_flask"/>
            <p:cNvPicPr/>
            <p:nvPr/>
          </p:nvPicPr>
          <p:blipFill>
            <a:blip r:embed="rId5"/>
            <a:stretch/>
          </p:blipFill>
          <p:spPr>
            <a:xfrm>
              <a:off x="6629400" y="2349360"/>
              <a:ext cx="10080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Line 14"/>
            <p:cNvSpPr/>
            <p:nvPr/>
          </p:nvSpPr>
          <p:spPr>
            <a:xfrm>
              <a:off x="6413400" y="2060640"/>
              <a:ext cx="43200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16"/>
            <p:cNvSpPr/>
            <p:nvPr/>
          </p:nvSpPr>
          <p:spPr>
            <a:xfrm>
              <a:off x="6988320" y="2349360"/>
              <a:ext cx="288720" cy="216000"/>
            </a:xfrm>
            <a:custGeom>
              <a:avLst/>
              <a:gdLst>
                <a:gd name="textAreaLeft" fmla="*/ 60120 w 288720"/>
                <a:gd name="textAreaRight" fmla="*/ 228600 w 288720"/>
                <a:gd name="textAreaTop" fmla="*/ 44280 h 216000"/>
                <a:gd name="textAreaBottom" fmla="*/ 17172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33"/>
            <p:cNvSpPr/>
            <p:nvPr/>
          </p:nvSpPr>
          <p:spPr>
            <a:xfrm>
              <a:off x="6342120" y="393372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38"/>
          <p:cNvGrpSpPr/>
          <p:nvPr/>
        </p:nvGrpSpPr>
        <p:grpSpPr>
          <a:xfrm>
            <a:off x="6700680" y="3213000"/>
            <a:ext cx="1972800" cy="368280"/>
            <a:chOff x="6700680" y="3213000"/>
            <a:chExt cx="1972800" cy="368280"/>
          </a:xfrm>
        </p:grpSpPr>
        <p:sp>
          <p:nvSpPr>
            <p:cNvPr id="529" name="AutoShape 22"/>
            <p:cNvSpPr/>
            <p:nvPr/>
          </p:nvSpPr>
          <p:spPr>
            <a:xfrm flipV="1">
              <a:off x="6700680" y="3284640"/>
              <a:ext cx="863640" cy="217440"/>
            </a:xfrm>
            <a:custGeom>
              <a:avLst/>
              <a:gdLst>
                <a:gd name="textAreaLeft" fmla="*/ 110880 w 863640"/>
                <a:gd name="textAreaRight" fmla="*/ 752760 w 863640"/>
                <a:gd name="textAreaTop" fmla="*/ 28440 h 217440"/>
                <a:gd name="textAreaBottom" fmla="*/ 18900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0" y="21600"/>
                  </a:lnTo>
                  <a:lnTo>
                    <a:pt x="1966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34"/>
            <p:cNvSpPr/>
            <p:nvPr/>
          </p:nvSpPr>
          <p:spPr>
            <a:xfrm>
              <a:off x="7566120" y="321300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se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9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2259720" y="287352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swf/epet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186920" y="21492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C. Transformación del piruvato en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355680" y="771120"/>
            <a:ext cx="83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l acetil-CoA se forma por descarboxilación oxidativa del piruvato, por la acción del </a:t>
            </a: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complejo multienzimático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iruvato deshidrogenasa (PD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619280" y="1628640"/>
          <a:ext cx="612144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612144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0"/>
          <p:cNvSpPr/>
          <p:nvPr/>
        </p:nvSpPr>
        <p:spPr>
          <a:xfrm>
            <a:off x="324000" y="38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DH es un complejo, constituido por tres enzimas (E1: Piruvato descarboxilasa, E2: Dihidrolipoil transacetilasa y E3: Lipoil deshidrogenasa) y 5 coenzimas (TPP, ac. Lipoico, Coenzima A, FA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NA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12 Sintesis Ac"/>
          <p:cNvPicPr/>
          <p:nvPr/>
        </p:nvPicPr>
        <p:blipFill>
          <a:blip r:embed="rId3"/>
          <a:srcRect l="8780" t="28345" r="7696" b="28345"/>
          <a:stretch/>
        </p:blipFill>
        <p:spPr>
          <a:xfrm>
            <a:off x="1114560" y="4857840"/>
            <a:ext cx="7130880" cy="166824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95" name="Text Box 12"/>
          <p:cNvSpPr/>
          <p:nvPr/>
        </p:nvSpPr>
        <p:spPr>
          <a:xfrm>
            <a:off x="6045120" y="1989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187280" y="60562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45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533" name="Group 43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grpSp>
            <p:nvGrpSpPr>
              <p:cNvPr id="534" name="Group 42"/>
              <p:cNvGrpSpPr/>
              <p:nvPr/>
            </p:nvGrpSpPr>
            <p:grpSpPr>
              <a:xfrm>
                <a:off x="0" y="0"/>
                <a:ext cx="9144000" cy="6834240"/>
                <a:chOff x="0" y="0"/>
                <a:chExt cx="9144000" cy="6834240"/>
              </a:xfrm>
            </p:grpSpPr>
            <p:pic>
              <p:nvPicPr>
                <p:cNvPr id="535" name="Picture 2" descr="14 CK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3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6" name="Text Box 30"/>
                <p:cNvSpPr/>
                <p:nvPr/>
              </p:nvSpPr>
              <p:spPr>
                <a:xfrm>
                  <a:off x="3390480" y="71604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31"/>
                <p:cNvSpPr/>
                <p:nvPr/>
              </p:nvSpPr>
              <p:spPr>
                <a:xfrm>
                  <a:off x="3227040" y="107640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Arc 29"/>
              <p:cNvSpPr/>
              <p:nvPr/>
            </p:nvSpPr>
            <p:spPr>
              <a:xfrm rot="20133600">
                <a:off x="3865680" y="692280"/>
                <a:ext cx="360360" cy="43164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2232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Rectangle 44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542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545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548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551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554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8"/>
          <p:cNvSpPr/>
          <p:nvPr/>
        </p:nvSpPr>
        <p:spPr>
          <a:xfrm>
            <a:off x="609876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3"/>
          <p:cNvGrpSpPr/>
          <p:nvPr/>
        </p:nvGrpSpPr>
        <p:grpSpPr>
          <a:xfrm>
            <a:off x="3256560" y="425520"/>
            <a:ext cx="784080" cy="431640"/>
            <a:chOff x="3256560" y="425520"/>
            <a:chExt cx="784080" cy="431640"/>
          </a:xfrm>
        </p:grpSpPr>
        <p:sp>
          <p:nvSpPr>
            <p:cNvPr id="561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5"/>
            <p:cNvSpPr/>
            <p:nvPr/>
          </p:nvSpPr>
          <p:spPr>
            <a:xfrm>
              <a:off x="3708360" y="620640"/>
              <a:ext cx="0" cy="2365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6"/>
          <p:cNvGrpSpPr/>
          <p:nvPr/>
        </p:nvGrpSpPr>
        <p:grpSpPr>
          <a:xfrm>
            <a:off x="4426560" y="417600"/>
            <a:ext cx="1073880" cy="1017360"/>
            <a:chOff x="4426560" y="417600"/>
            <a:chExt cx="1073880" cy="1017360"/>
          </a:xfrm>
        </p:grpSpPr>
        <p:sp>
          <p:nvSpPr>
            <p:cNvPr id="564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8"/>
            <p:cNvSpPr/>
            <p:nvPr/>
          </p:nvSpPr>
          <p:spPr>
            <a:xfrm>
              <a:off x="4643280" y="64296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2"/>
          <p:cNvSpPr/>
          <p:nvPr/>
        </p:nvSpPr>
        <p:spPr>
          <a:xfrm>
            <a:off x="4071960" y="142884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7"/>
          <p:cNvSpPr/>
          <p:nvPr/>
        </p:nvSpPr>
        <p:spPr>
          <a:xfrm>
            <a:off x="3568680" y="857160"/>
            <a:ext cx="432000" cy="23508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3"/>
          <p:cNvGrpSpPr/>
          <p:nvPr/>
        </p:nvGrpSpPr>
        <p:grpSpPr>
          <a:xfrm>
            <a:off x="2411280" y="1916280"/>
            <a:ext cx="1081080" cy="433080"/>
            <a:chOff x="2411280" y="1916280"/>
            <a:chExt cx="1081080" cy="433080"/>
          </a:xfrm>
        </p:grpSpPr>
        <p:sp>
          <p:nvSpPr>
            <p:cNvPr id="571" name="Rectangle 14"/>
            <p:cNvSpPr/>
            <p:nvPr/>
          </p:nvSpPr>
          <p:spPr>
            <a:xfrm>
              <a:off x="2411280" y="1916280"/>
              <a:ext cx="611280" cy="4330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9"/>
            <p:cNvSpPr/>
            <p:nvPr/>
          </p:nvSpPr>
          <p:spPr>
            <a:xfrm>
              <a:off x="3059280" y="2133720"/>
              <a:ext cx="433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4"/>
          <p:cNvGrpSpPr/>
          <p:nvPr/>
        </p:nvGrpSpPr>
        <p:grpSpPr>
          <a:xfrm>
            <a:off x="1835280" y="4221000"/>
            <a:ext cx="1728720" cy="720720"/>
            <a:chOff x="1835280" y="4221000"/>
            <a:chExt cx="1728720" cy="720720"/>
          </a:xfrm>
        </p:grpSpPr>
        <p:sp>
          <p:nvSpPr>
            <p:cNvPr id="574" name="Rectangle 15"/>
            <p:cNvSpPr/>
            <p:nvPr/>
          </p:nvSpPr>
          <p:spPr>
            <a:xfrm>
              <a:off x="1835280" y="422100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0"/>
            <p:cNvSpPr/>
            <p:nvPr/>
          </p:nvSpPr>
          <p:spPr>
            <a:xfrm>
              <a:off x="2556000" y="458136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25"/>
          <p:cNvGrpSpPr/>
          <p:nvPr/>
        </p:nvGrpSpPr>
        <p:grpSpPr>
          <a:xfrm>
            <a:off x="5867280" y="4221000"/>
            <a:ext cx="1225800" cy="503280"/>
            <a:chOff x="5867280" y="4221000"/>
            <a:chExt cx="1225800" cy="503280"/>
          </a:xfrm>
        </p:grpSpPr>
        <p:sp>
          <p:nvSpPr>
            <p:cNvPr id="577" name="Rectangle 16"/>
            <p:cNvSpPr/>
            <p:nvPr/>
          </p:nvSpPr>
          <p:spPr>
            <a:xfrm>
              <a:off x="6300720" y="4221000"/>
              <a:ext cx="792360" cy="503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1"/>
            <p:cNvSpPr/>
            <p:nvPr/>
          </p:nvSpPr>
          <p:spPr>
            <a:xfrm flipH="1">
              <a:off x="5867280" y="4437000"/>
              <a:ext cx="4334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9"/>
          <p:cNvGrpSpPr/>
          <p:nvPr/>
        </p:nvGrpSpPr>
        <p:grpSpPr>
          <a:xfrm>
            <a:off x="2698920" y="4724280"/>
            <a:ext cx="936360" cy="506520"/>
            <a:chOff x="2698920" y="4724280"/>
            <a:chExt cx="936360" cy="506520"/>
          </a:xfrm>
        </p:grpSpPr>
        <p:sp>
          <p:nvSpPr>
            <p:cNvPr id="580" name="Rectangle 27"/>
            <p:cNvSpPr/>
            <p:nvPr/>
          </p:nvSpPr>
          <p:spPr>
            <a:xfrm>
              <a:off x="2698920" y="4797360"/>
              <a:ext cx="610920" cy="4334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8"/>
            <p:cNvSpPr/>
            <p:nvPr/>
          </p:nvSpPr>
          <p:spPr>
            <a:xfrm flipV="1">
              <a:off x="3348000" y="4724280"/>
              <a:ext cx="287280" cy="1447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4"/>
          <p:cNvGrpSpPr/>
          <p:nvPr/>
        </p:nvGrpSpPr>
        <p:grpSpPr>
          <a:xfrm>
            <a:off x="1857240" y="571680"/>
            <a:ext cx="1728720" cy="720720"/>
            <a:chOff x="1857240" y="571680"/>
            <a:chExt cx="1728720" cy="720720"/>
          </a:xfrm>
        </p:grpSpPr>
        <p:sp>
          <p:nvSpPr>
            <p:cNvPr id="583" name="Rectangle 15"/>
            <p:cNvSpPr/>
            <p:nvPr/>
          </p:nvSpPr>
          <p:spPr>
            <a:xfrm>
              <a:off x="1857240" y="57168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0"/>
            <p:cNvSpPr/>
            <p:nvPr/>
          </p:nvSpPr>
          <p:spPr>
            <a:xfrm>
              <a:off x="2577960" y="93204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32 Grupo"/>
          <p:cNvGrpSpPr/>
          <p:nvPr/>
        </p:nvGrpSpPr>
        <p:grpSpPr>
          <a:xfrm>
            <a:off x="4714560" y="571680"/>
            <a:ext cx="2357640" cy="857160"/>
            <a:chOff x="4714560" y="571680"/>
            <a:chExt cx="2357640" cy="857160"/>
          </a:xfrm>
        </p:grpSpPr>
        <p:sp>
          <p:nvSpPr>
            <p:cNvPr id="586" name="Rectangle 16"/>
            <p:cNvSpPr/>
            <p:nvPr/>
          </p:nvSpPr>
          <p:spPr>
            <a:xfrm>
              <a:off x="6357960" y="571680"/>
              <a:ext cx="714240" cy="7858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21"/>
            <p:cNvSpPr/>
            <p:nvPr/>
          </p:nvSpPr>
          <p:spPr>
            <a:xfrm flipH="1">
              <a:off x="4714560" y="1000080"/>
              <a:ext cx="1644840" cy="4287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Oval 12"/>
          <p:cNvSpPr/>
          <p:nvPr/>
        </p:nvSpPr>
        <p:spPr>
          <a:xfrm>
            <a:off x="3429000" y="192888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90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591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594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3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4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5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6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7" name="31 Conector recto de flecha"/>
          <p:cNvCxnSpPr/>
          <p:nvPr/>
        </p:nvCxnSpPr>
        <p:spPr>
          <a:xfrm flipH="1" flipV="1">
            <a:off x="2928240" y="2133360"/>
            <a:ext cx="5007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6" dur="2000" fill="hold"/>
                                        <p:tgtEl>
                                          <p:spTgt spid="6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Comic Sans MS"/>
              </a:rPr>
              <a:t>FUNCION ANFIBOLICA </a:t>
            </a:r>
            <a:br>
              <a:rPr sz="3200"/>
            </a:br>
            <a:r>
              <a:rPr b="1" lang="es-ES" sz="3200" spc="-1" strike="noStrike">
                <a:solidFill>
                  <a:srgbClr val="d60093"/>
                </a:solidFill>
                <a:latin typeface="Comic Sans MS"/>
              </a:rPr>
              <a:t>DEL CICLO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6624360" cy="5029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energía metabólica en forma de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ATP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la mayor parte del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CO</a:t>
            </a:r>
            <a:r>
              <a:rPr b="1" lang="es-E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 la cél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citrato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 partir del cual se obtienen el precursor (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cetil-Co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) para la síntesis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ácidos grasos, colesterol, hormonas esteroideas, prostaglandin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visión de precursores para la síntesis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minoácidos, nucleótidos y porfirin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6732720" y="1555920"/>
            <a:ext cx="431640" cy="1728720"/>
          </a:xfrm>
          <a:custGeom>
            <a:avLst/>
            <a:gdLst>
              <a:gd name="textAreaLeft" fmla="*/ 0 w 431640"/>
              <a:gd name="textAreaRight" fmla="*/ 155880 w 43164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6732720" y="3500280"/>
            <a:ext cx="431640" cy="2881440"/>
          </a:xfrm>
          <a:custGeom>
            <a:avLst/>
            <a:gdLst>
              <a:gd name="textAreaLeft" fmla="*/ 0 w 431640"/>
              <a:gd name="textAreaRight" fmla="*/ 155880 w 43164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7056000" y="19890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Fun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ca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7162920" y="4437000"/>
            <a:ext cx="18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Fun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an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616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619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5"/>
          <p:cNvSpPr/>
          <p:nvPr/>
        </p:nvSpPr>
        <p:spPr>
          <a:xfrm rot="18743400">
            <a:off x="3562920" y="1916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2987640" y="2133720"/>
            <a:ext cx="504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3780000" y="1052640"/>
            <a:ext cx="1440" cy="934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rc 18"/>
          <p:cNvSpPr/>
          <p:nvPr/>
        </p:nvSpPr>
        <p:spPr>
          <a:xfrm flipH="1" flipV="1" rot="6604200">
            <a:off x="3410280" y="2267280"/>
            <a:ext cx="376560" cy="360360"/>
          </a:xfrm>
          <a:custGeom>
            <a:avLst/>
            <a:gdLst>
              <a:gd name="textAreaLeft" fmla="*/ 360 w 376560"/>
              <a:gd name="textAreaRight" fmla="*/ 377280 w 37656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</a:path>
              <a:path stroke="0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2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3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4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5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6" name="31 Conector recto de flecha"/>
          <p:cNvCxnSpPr/>
          <p:nvPr/>
        </p:nvCxnSpPr>
        <p:spPr>
          <a:xfrm flipH="1" flipV="1">
            <a:off x="2928240" y="2142360"/>
            <a:ext cx="50076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1" dur="50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3" dur="5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1 CuadroTexto"/>
          <p:cNvSpPr/>
          <p:nvPr/>
        </p:nvSpPr>
        <p:spPr>
          <a:xfrm>
            <a:off x="539640" y="404640"/>
            <a:ext cx="7993080" cy="53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O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que permiten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poner intermediari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han sido sustraídos por otras rutas biosint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en equilibrio las concentraciones intramitocondriales de los intermediarios del cicl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"/>
          <p:cNvPicPr/>
          <p:nvPr/>
        </p:nvPicPr>
        <p:blipFill>
          <a:blip r:embed="rId1"/>
          <a:srcRect l="0" t="2069" r="0" b="0"/>
          <a:stretch/>
        </p:blipFill>
        <p:spPr>
          <a:xfrm>
            <a:off x="324000" y="44280"/>
            <a:ext cx="8424720" cy="683280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3"/>
          <p:cNvSpPr/>
          <p:nvPr/>
        </p:nvSpPr>
        <p:spPr>
          <a:xfrm>
            <a:off x="4093200" y="27637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Piruv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5572440" y="3068640"/>
            <a:ext cx="872280" cy="1526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Enzima má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2277000" y="23749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ff"/>
                </a:solidFill>
                <a:latin typeface="Arial"/>
              </a:rPr>
              <a:t>P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ff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400040" y="609300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PEP: fosfoenol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3147840" y="2421000"/>
            <a:ext cx="74448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PEPcarboxi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quin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1476360" y="6453360"/>
            <a:ext cx="3166920" cy="4046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8" dur="2000" fill="hold"/>
                                        <p:tgtEl>
                                          <p:spTgt spid="6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5" dur="2000" fill="hold"/>
                                        <p:tgtEl>
                                          <p:spTgt spid="6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8" dur="2000" fill="hold"/>
                                        <p:tgtEl>
                                          <p:spTgt spid="6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5" dur="2000" fill="hold"/>
                                        <p:tgtEl>
                                          <p:spTgt spid="6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903240" y="5300640"/>
            <a:ext cx="7629480" cy="662040"/>
            <a:chOff x="903240" y="5300640"/>
            <a:chExt cx="7629480" cy="662040"/>
          </a:xfrm>
        </p:grpSpPr>
        <p:sp>
          <p:nvSpPr>
            <p:cNvPr id="646" name="Rectángulo 9"/>
            <p:cNvSpPr/>
            <p:nvPr/>
          </p:nvSpPr>
          <p:spPr>
            <a:xfrm>
              <a:off x="903240" y="5300640"/>
              <a:ext cx="76294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     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upo 19"/>
            <p:cNvGrpSpPr/>
            <p:nvPr/>
          </p:nvGrpSpPr>
          <p:grpSpPr>
            <a:xfrm>
              <a:off x="4970520" y="5562720"/>
              <a:ext cx="685800" cy="142920"/>
              <a:chOff x="4970520" y="5562720"/>
              <a:chExt cx="685800" cy="142920"/>
            </a:xfrm>
          </p:grpSpPr>
          <p:sp>
            <p:nvSpPr>
              <p:cNvPr id="648" name="Línea 17"/>
              <p:cNvSpPr/>
              <p:nvPr/>
            </p:nvSpPr>
            <p:spPr>
              <a:xfrm>
                <a:off x="4970520" y="556272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ínea 18"/>
              <p:cNvSpPr/>
              <p:nvPr/>
            </p:nvSpPr>
            <p:spPr>
              <a:xfrm>
                <a:off x="4970520" y="570564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IRUVATO CARBOXILASA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(ACTIVADA POR ACETIL-CoA, presente principalmente en Hígado y Riñ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REACCIONES ANAPLEROTICAS O DE REL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9"/>
          <p:cNvGrpSpPr/>
          <p:nvPr/>
        </p:nvGrpSpPr>
        <p:grpSpPr>
          <a:xfrm>
            <a:off x="900000" y="2852640"/>
            <a:ext cx="7343640" cy="649440"/>
            <a:chOff x="900000" y="2852640"/>
            <a:chExt cx="7343640" cy="649440"/>
          </a:xfrm>
        </p:grpSpPr>
        <p:sp>
          <p:nvSpPr>
            <p:cNvPr id="653" name="Rectángulo 5"/>
            <p:cNvSpPr/>
            <p:nvPr/>
          </p:nvSpPr>
          <p:spPr>
            <a:xfrm>
              <a:off x="900000" y="2852640"/>
              <a:ext cx="7343640" cy="649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+ 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GDP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G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Grupo 13"/>
            <p:cNvGrpSpPr/>
            <p:nvPr/>
          </p:nvGrpSpPr>
          <p:grpSpPr>
            <a:xfrm>
              <a:off x="4837320" y="3152520"/>
              <a:ext cx="655560" cy="131400"/>
              <a:chOff x="4837320" y="3152520"/>
              <a:chExt cx="655560" cy="131400"/>
            </a:xfrm>
          </p:grpSpPr>
          <p:sp>
            <p:nvSpPr>
              <p:cNvPr id="655" name="Línea 11"/>
              <p:cNvSpPr/>
              <p:nvPr/>
            </p:nvSpPr>
            <p:spPr>
              <a:xfrm>
                <a:off x="4837320" y="3152520"/>
                <a:ext cx="65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ínea 12"/>
              <p:cNvSpPr/>
              <p:nvPr/>
            </p:nvSpPr>
            <p:spPr>
              <a:xfrm>
                <a:off x="4837320" y="3283920"/>
                <a:ext cx="65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7" name="Group 14"/>
          <p:cNvGrpSpPr/>
          <p:nvPr/>
        </p:nvGrpSpPr>
        <p:grpSpPr>
          <a:xfrm>
            <a:off x="847800" y="1739880"/>
            <a:ext cx="7324560" cy="448200"/>
            <a:chOff x="847800" y="1739880"/>
            <a:chExt cx="7324560" cy="448200"/>
          </a:xfrm>
        </p:grpSpPr>
        <p:sp>
          <p:nvSpPr>
            <p:cNvPr id="658" name="Rectángulo 6"/>
            <p:cNvSpPr/>
            <p:nvPr/>
          </p:nvSpPr>
          <p:spPr>
            <a:xfrm>
              <a:off x="847800" y="1739880"/>
              <a:ext cx="7324560" cy="448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TP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upo 16"/>
            <p:cNvGrpSpPr/>
            <p:nvPr/>
          </p:nvGrpSpPr>
          <p:grpSpPr>
            <a:xfrm>
              <a:off x="4106880" y="1884240"/>
              <a:ext cx="685800" cy="152280"/>
              <a:chOff x="4106880" y="1884240"/>
              <a:chExt cx="685800" cy="152280"/>
            </a:xfrm>
          </p:grpSpPr>
          <p:sp>
            <p:nvSpPr>
              <p:cNvPr id="660" name="Línea 14"/>
              <p:cNvSpPr/>
              <p:nvPr/>
            </p:nvSpPr>
            <p:spPr>
              <a:xfrm>
                <a:off x="4106880" y="188424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ínea 15"/>
              <p:cNvSpPr/>
              <p:nvPr/>
            </p:nvSpPr>
            <p:spPr>
              <a:xfrm>
                <a:off x="4106880" y="203652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Group 19"/>
          <p:cNvGrpSpPr/>
          <p:nvPr/>
        </p:nvGrpSpPr>
        <p:grpSpPr>
          <a:xfrm>
            <a:off x="890640" y="4005360"/>
            <a:ext cx="7858080" cy="662040"/>
            <a:chOff x="890640" y="4005360"/>
            <a:chExt cx="7858080" cy="662040"/>
          </a:xfrm>
        </p:grpSpPr>
        <p:sp>
          <p:nvSpPr>
            <p:cNvPr id="663" name="Rectángulo 10"/>
            <p:cNvSpPr/>
            <p:nvPr/>
          </p:nvSpPr>
          <p:spPr>
            <a:xfrm>
              <a:off x="890640" y="4005360"/>
              <a:ext cx="78580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NADPH 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L-mal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NADP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Grupo 20"/>
            <p:cNvGrpSpPr/>
            <p:nvPr/>
          </p:nvGrpSpPr>
          <p:grpSpPr>
            <a:xfrm>
              <a:off x="4940280" y="4295880"/>
              <a:ext cx="558000" cy="142560"/>
              <a:chOff x="4940280" y="4295880"/>
              <a:chExt cx="558000" cy="142560"/>
            </a:xfrm>
          </p:grpSpPr>
          <p:sp>
            <p:nvSpPr>
              <p:cNvPr id="665" name="Línea 21"/>
              <p:cNvSpPr/>
              <p:nvPr/>
            </p:nvSpPr>
            <p:spPr>
              <a:xfrm>
                <a:off x="4940280" y="4295880"/>
                <a:ext cx="5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ínea 22"/>
              <p:cNvSpPr/>
              <p:nvPr/>
            </p:nvSpPr>
            <p:spPr>
              <a:xfrm>
                <a:off x="4940280" y="4438440"/>
                <a:ext cx="5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Rectángulo 4"/>
          <p:cNvSpPr/>
          <p:nvPr/>
        </p:nvSpPr>
        <p:spPr>
          <a:xfrm>
            <a:off x="446040" y="24210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EP CARBOXIQUINASA</a:t>
            </a:r>
            <a:r>
              <a:rPr b="1" i="1" lang="es-AR" sz="2000" spc="-1" strike="noStrike">
                <a:solidFill>
                  <a:srgbClr val="333399"/>
                </a:solidFill>
                <a:latin typeface="Arial"/>
              </a:rPr>
              <a:t> (Músculo esquelético y cardía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ángulo 4"/>
          <p:cNvSpPr/>
          <p:nvPr/>
        </p:nvSpPr>
        <p:spPr>
          <a:xfrm>
            <a:off x="468360" y="3645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NZIMA MA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ángulo 4"/>
          <p:cNvSpPr/>
          <p:nvPr/>
        </p:nvSpPr>
        <p:spPr>
          <a:xfrm>
            <a:off x="468360" y="486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PEP CARBOXILASA</a:t>
            </a:r>
            <a:r>
              <a:rPr b="1" i="1" lang="es-AR" sz="2000" spc="-1" strike="noStrike">
                <a:solidFill>
                  <a:srgbClr val="009900"/>
                </a:solidFill>
                <a:latin typeface="Arial"/>
              </a:rPr>
              <a:t> (Plantas y algunas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082600" y="2917800"/>
            <a:ext cx="48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pd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ubmb-nicholson.org/swf/e1_v7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11280" y="198756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DH está regulada por tres mecanismos superpues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regulación alo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rica. Es inhibido por sus productos: NADH y Acetil-CoA, y po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Por modificación covalente (fosforilación-desfosforilación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3) Por control hormonal (Insulina/ Glucag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96000" y="7477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1"/>
          <p:cNvGrpSpPr/>
          <p:nvPr/>
        </p:nvGrpSpPr>
        <p:grpSpPr>
          <a:xfrm>
            <a:off x="1638360" y="152280"/>
            <a:ext cx="5867280" cy="6553440"/>
            <a:chOff x="1638360" y="152280"/>
            <a:chExt cx="5867280" cy="6553440"/>
          </a:xfrm>
        </p:grpSpPr>
        <p:grpSp>
          <p:nvGrpSpPr>
            <p:cNvPr id="102" name="Group 9"/>
            <p:cNvGrpSpPr/>
            <p:nvPr/>
          </p:nvGrpSpPr>
          <p:grpSpPr>
            <a:xfrm>
              <a:off x="1638360" y="152280"/>
              <a:ext cx="5867280" cy="6553440"/>
              <a:chOff x="1638360" y="152280"/>
              <a:chExt cx="5867280" cy="6553440"/>
            </a:xfrm>
          </p:grpSpPr>
          <p:pic>
            <p:nvPicPr>
              <p:cNvPr id="103" name="Picture 2" descr="13 Control de PDH"/>
              <p:cNvPicPr/>
              <p:nvPr/>
            </p:nvPicPr>
            <p:blipFill>
              <a:blip r:embed="rId1"/>
              <a:stretch/>
            </p:blipFill>
            <p:spPr>
              <a:xfrm>
                <a:off x="1638360" y="152280"/>
                <a:ext cx="5867280" cy="65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8"/>
              <p:cNvSpPr/>
              <p:nvPr/>
            </p:nvSpPr>
            <p:spPr>
              <a:xfrm>
                <a:off x="2486520" y="40053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10"/>
            <p:cNvSpPr/>
            <p:nvPr/>
          </p:nvSpPr>
          <p:spPr>
            <a:xfrm>
              <a:off x="3419640" y="1413000"/>
              <a:ext cx="888840" cy="1828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ucag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3"/>
          <p:cNvSpPr/>
          <p:nvPr/>
        </p:nvSpPr>
        <p:spPr>
          <a:xfrm>
            <a:off x="2305440" y="18900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1765440" y="2492280"/>
            <a:ext cx="2374920" cy="3816360"/>
          </a:xfrm>
          <a:prstGeom prst="ellips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2484360" y="1989000"/>
            <a:ext cx="4392720" cy="2735280"/>
          </a:xfrm>
          <a:prstGeom prst="ellipse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627280" y="620640"/>
            <a:ext cx="4249800" cy="295272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843280" y="3141720"/>
            <a:ext cx="4033800" cy="25192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elula y mitocondria"/>
          <p:cNvPicPr/>
          <p:nvPr/>
        </p:nvPicPr>
        <p:blipFill>
          <a:blip r:embed="rId1"/>
          <a:srcRect l="17924" t="0" r="2015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3"/>
          <p:cNvGrpSpPr/>
          <p:nvPr/>
        </p:nvGrpSpPr>
        <p:grpSpPr>
          <a:xfrm>
            <a:off x="628920" y="1052640"/>
            <a:ext cx="2059920" cy="1376280"/>
            <a:chOff x="628920" y="1052640"/>
            <a:chExt cx="2059920" cy="1376280"/>
          </a:xfrm>
        </p:grpSpPr>
        <p:sp>
          <p:nvSpPr>
            <p:cNvPr id="113" name="Text Box 4"/>
            <p:cNvSpPr/>
            <p:nvPr/>
          </p:nvSpPr>
          <p:spPr>
            <a:xfrm>
              <a:off x="686160" y="105264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"/>
            <p:cNvSpPr/>
            <p:nvPr/>
          </p:nvSpPr>
          <p:spPr>
            <a:xfrm>
              <a:off x="147636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28920" y="2060640"/>
              <a:ext cx="20599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14778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9"/>
          <p:cNvSpPr/>
          <p:nvPr/>
        </p:nvSpPr>
        <p:spPr>
          <a:xfrm>
            <a:off x="4113360" y="113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995640" y="907920"/>
            <a:ext cx="7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2700360" y="2060640"/>
            <a:ext cx="2358720" cy="504720"/>
            <a:chOff x="2700360" y="2060640"/>
            <a:chExt cx="2358720" cy="504720"/>
          </a:xfrm>
        </p:grpSpPr>
        <p:sp>
          <p:nvSpPr>
            <p:cNvPr id="120" name="Text Box 38"/>
            <p:cNvSpPr/>
            <p:nvPr/>
          </p:nvSpPr>
          <p:spPr>
            <a:xfrm>
              <a:off x="3506760" y="209376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>
              <a:off x="2700360" y="2276640"/>
              <a:ext cx="792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6"/>
            <p:cNvSpPr/>
            <p:nvPr/>
          </p:nvSpPr>
          <p:spPr>
            <a:xfrm>
              <a:off x="2916360" y="2060640"/>
              <a:ext cx="431640" cy="504720"/>
            </a:xfrm>
            <a:prstGeom prst="ellipse">
              <a:avLst/>
            </a:prstGeom>
            <a:solidFill>
              <a:srgbClr val="ffcc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5148360" y="4219560"/>
            <a:ext cx="2780280" cy="2279160"/>
            <a:chOff x="5148360" y="4219560"/>
            <a:chExt cx="2780280" cy="2279160"/>
          </a:xfrm>
        </p:grpSpPr>
        <p:sp>
          <p:nvSpPr>
            <p:cNvPr id="124" name="Text Box 29"/>
            <p:cNvSpPr/>
            <p:nvPr/>
          </p:nvSpPr>
          <p:spPr>
            <a:xfrm>
              <a:off x="6336720" y="609300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2"/>
            <p:cNvSpPr/>
            <p:nvPr/>
          </p:nvSpPr>
          <p:spPr>
            <a:xfrm>
              <a:off x="5652360" y="4581360"/>
              <a:ext cx="903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ic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rc 42"/>
            <p:cNvSpPr/>
            <p:nvPr/>
          </p:nvSpPr>
          <p:spPr>
            <a:xfrm>
              <a:off x="5148360" y="4219560"/>
              <a:ext cx="1942920" cy="187344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1873440"/>
                <a:gd name="textAreaBottom" fmla="*/ 1873800 h 18734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2820"/>
                    <a:pt x="5314" y="4914"/>
                    <a:pt x="13444" y="1599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2820"/>
                    <a:pt x="5314" y="4914"/>
                    <a:pt x="13444" y="1599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3553200" y="2492280"/>
            <a:ext cx="2655720" cy="1752840"/>
            <a:chOff x="3553200" y="2492280"/>
            <a:chExt cx="2655720" cy="1752840"/>
          </a:xfrm>
        </p:grpSpPr>
        <p:sp>
          <p:nvSpPr>
            <p:cNvPr id="128" name="Text Box 28"/>
            <p:cNvSpPr/>
            <p:nvPr/>
          </p:nvSpPr>
          <p:spPr>
            <a:xfrm>
              <a:off x="4013640" y="3390840"/>
              <a:ext cx="153864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rc 41"/>
            <p:cNvSpPr/>
            <p:nvPr/>
          </p:nvSpPr>
          <p:spPr>
            <a:xfrm rot="5734800">
              <a:off x="5204520" y="3410640"/>
              <a:ext cx="360360" cy="1193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fill="none" w="21600" h="28231">
                  <a:moveTo>
                    <a:pt x="20537" y="0"/>
                  </a:moveTo>
                  <a:cubicBezTo>
                    <a:pt x="21241" y="2160"/>
                    <a:pt x="21600" y="4418"/>
                    <a:pt x="21600" y="6690"/>
                  </a:cubicBezTo>
                  <a:cubicBezTo>
                    <a:pt x="21600" y="18002"/>
                    <a:pt x="12872" y="27398"/>
                    <a:pt x="1591" y="28231"/>
                  </a:cubicBezTo>
                </a:path>
                <a:path stroke="0" w="21600" h="28231">
                  <a:moveTo>
                    <a:pt x="20537" y="0"/>
                  </a:moveTo>
                  <a:cubicBezTo>
                    <a:pt x="21241" y="2160"/>
                    <a:pt x="21600" y="4418"/>
                    <a:pt x="21600" y="6690"/>
                  </a:cubicBezTo>
                  <a:cubicBezTo>
                    <a:pt x="21600" y="18002"/>
                    <a:pt x="12872" y="27398"/>
                    <a:pt x="1591" y="28231"/>
                  </a:cubicBezTo>
                  <a:lnTo>
                    <a:pt x="0" y="6690"/>
                  </a:lnTo>
                  <a:lnTo>
                    <a:pt x="20537" y="0"/>
                  </a:lnTo>
                  <a:close/>
                </a:path>
              </a:pathLst>
            </a:custGeom>
            <a:noFill/>
            <a:ln w="4428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52"/>
            <p:cNvGrpSpPr/>
            <p:nvPr/>
          </p:nvGrpSpPr>
          <p:grpSpPr>
            <a:xfrm>
              <a:off x="3553200" y="2492280"/>
              <a:ext cx="2655720" cy="865440"/>
              <a:chOff x="3553200" y="2492280"/>
              <a:chExt cx="2655720" cy="865440"/>
            </a:xfrm>
          </p:grpSpPr>
          <p:sp>
            <p:nvSpPr>
              <p:cNvPr id="131" name="Line 27"/>
              <p:cNvSpPr/>
              <p:nvPr/>
            </p:nvSpPr>
            <p:spPr>
              <a:xfrm>
                <a:off x="4716360" y="2492280"/>
                <a:ext cx="0" cy="865440"/>
              </a:xfrm>
              <a:prstGeom prst="line">
                <a:avLst/>
              </a:prstGeom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40"/>
              <p:cNvSpPr/>
              <p:nvPr/>
            </p:nvSpPr>
            <p:spPr>
              <a:xfrm>
                <a:off x="4718160" y="274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0000"/>
                    </a:solidFill>
                    <a:latin typeface="Arial"/>
                  </a:rPr>
                  <a:t>PD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rc 45"/>
              <p:cNvSpPr/>
              <p:nvPr/>
            </p:nvSpPr>
            <p:spPr>
              <a:xfrm>
                <a:off x="4387680" y="2995560"/>
                <a:ext cx="320760" cy="21744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4052" h="21600">
                    <a:moveTo>
                      <a:pt x="24052" y="4876"/>
                    </a:moveTo>
                    <a:cubicBezTo>
                      <a:pt x="21783" y="14667"/>
                      <a:pt x="13060" y="21599"/>
                      <a:pt x="3010" y="21600"/>
                    </a:cubicBezTo>
                    <a:cubicBezTo>
                      <a:pt x="2002" y="21600"/>
                      <a:pt x="997" y="21529"/>
                      <a:pt x="-1" y="21389"/>
                    </a:cubicBezTo>
                  </a:path>
                  <a:path stroke="0" w="24052" h="21600">
                    <a:moveTo>
                      <a:pt x="24052" y="4876"/>
                    </a:moveTo>
                    <a:cubicBezTo>
                      <a:pt x="21783" y="14667"/>
                      <a:pt x="13060" y="21599"/>
                      <a:pt x="3010" y="21600"/>
                    </a:cubicBezTo>
                    <a:cubicBezTo>
                      <a:pt x="2002" y="21600"/>
                      <a:pt x="997" y="21529"/>
                      <a:pt x="-1" y="21389"/>
                    </a:cubicBezTo>
                    <a:lnTo>
                      <a:pt x="3010" y="0"/>
                    </a:lnTo>
                    <a:lnTo>
                      <a:pt x="24052" y="4876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rc 46"/>
              <p:cNvSpPr/>
              <p:nvPr/>
            </p:nvSpPr>
            <p:spPr>
              <a:xfrm flipH="1">
                <a:off x="4716360" y="2708280"/>
                <a:ext cx="247680" cy="5047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47"/>
              <p:cNvSpPr/>
              <p:nvPr/>
            </p:nvSpPr>
            <p:spPr>
              <a:xfrm>
                <a:off x="4930560" y="2492280"/>
                <a:ext cx="85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NAD</a:t>
                </a:r>
                <a:r>
                  <a:rPr b="1" lang="es-ES_tradnl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48"/>
              <p:cNvSpPr/>
              <p:nvPr/>
            </p:nvSpPr>
            <p:spPr>
              <a:xfrm>
                <a:off x="4939920" y="2997360"/>
                <a:ext cx="126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NADH+H</a:t>
                </a:r>
                <a:r>
                  <a:rPr b="1" lang="es-ES_tradnl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49"/>
              <p:cNvSpPr/>
              <p:nvPr/>
            </p:nvSpPr>
            <p:spPr>
              <a:xfrm>
                <a:off x="3553200" y="2492280"/>
                <a:ext cx="11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CoA-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50"/>
              <p:cNvSpPr/>
              <p:nvPr/>
            </p:nvSpPr>
            <p:spPr>
              <a:xfrm>
                <a:off x="3942720" y="2948040"/>
                <a:ext cx="718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CO</a:t>
                </a:r>
                <a:r>
                  <a:rPr b="1" lang="es-ES_tradnl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rc 51"/>
              <p:cNvSpPr/>
              <p:nvPr/>
            </p:nvSpPr>
            <p:spPr>
              <a:xfrm>
                <a:off x="4444920" y="2706840"/>
                <a:ext cx="271440" cy="21744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0375" h="21600">
                    <a:moveTo>
                      <a:pt x="-1" y="0"/>
                    </a:moveTo>
                    <a:cubicBezTo>
                      <a:pt x="9165" y="0"/>
                      <a:pt x="17332" y="5783"/>
                      <a:pt x="20374" y="14429"/>
                    </a:cubicBezTo>
                  </a:path>
                  <a:path stroke="0" w="20375" h="21600">
                    <a:moveTo>
                      <a:pt x="-1" y="0"/>
                    </a:moveTo>
                    <a:cubicBezTo>
                      <a:pt x="9165" y="0"/>
                      <a:pt x="17332" y="5783"/>
                      <a:pt x="20374" y="1442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Oval 57"/>
          <p:cNvSpPr/>
          <p:nvPr/>
        </p:nvSpPr>
        <p:spPr>
          <a:xfrm rot="18731400">
            <a:off x="4751280" y="2528640"/>
            <a:ext cx="2449440" cy="48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38530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9"/>
          <p:cNvSpPr/>
          <p:nvPr/>
        </p:nvSpPr>
        <p:spPr>
          <a:xfrm>
            <a:off x="4140360" y="98100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0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1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3059280" y="981000"/>
            <a:ext cx="3095280" cy="12258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15200" y="6374520"/>
            <a:ext cx="22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ans Krebs,19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3059280" y="184464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5"/>
          <p:cNvSpPr/>
          <p:nvPr/>
        </p:nvSpPr>
        <p:spPr>
          <a:xfrm>
            <a:off x="5435640" y="1844640"/>
            <a:ext cx="93672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9:00:43Z</dcterms:created>
  <dc:creator>Colossus User</dc:creator>
  <dc:description/>
  <dc:language>en-US</dc:language>
  <cp:lastModifiedBy>Ana Anzulovich</cp:lastModifiedBy>
  <dcterms:modified xsi:type="dcterms:W3CDTF">2018-04-12T20:35:42Z</dcterms:modified>
  <cp:revision>54</cp:revision>
  <dc:subject/>
  <dc:title>Diapositiva 1</dc:title>
</cp:coreProperties>
</file>